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21599525" cy="302402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54A-ACFB-4173-A616-73EBC097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191-C187-4337-9764-2513FE58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B71-9DC8-4E50-B19F-0A090D25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E03-1A6E-4A36-AEF1-40491DD3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7918-97C4-49A8-994F-D2D7C27E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342A-6B96-4F85-B348-9B4AA991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834C-801A-469B-8A65-2A99DC4F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12AE-44EE-415E-A981-A295C744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3BDA-4599-4D38-8333-E233288D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483B-CA94-4A97-B76C-23EFD4EA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59C7-98C4-4790-847A-B2E676B7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4F3-52A6-4224-84DF-82F0CDEA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6460-FFA0-4717-AC6C-ED1BC80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215C-8609-4C48-A328-D46E4F2D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1C3B-1A06-4DEC-95E6-47BE2EA0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1FD0-B2F8-46E1-A053-EC0EEAC6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170D-B07F-4CC1-803D-3AABE943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0E81-8187-44F2-8454-0BBDC32B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7FF5-2B7C-4133-814F-C11EFF11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8C77-6BF4-42BC-841D-B086060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2EBB-CC59-4A5B-8B99-1114B8D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AB42-9512-4F5B-A4C1-C225CF3F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4C3-98D5-48D0-8FF2-AD8D0B7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E364-2562-4502-8401-311DA823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B6D6-C999-4E22-A3DD-8BF2634A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98E8-772E-4981-BA01-5BC509C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6D110-0D2C-43DA-A5BB-3D6BE29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5C04-8B93-4BA6-A9FE-C6324AAA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5A4A-77A6-44F4-9527-3D4978DE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5EAF-E38E-428E-AE30-A28C2745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E6F2B-8C9D-4F88-812E-970A0502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0F7C-0879-4498-B989-F89ED3A5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1390A-25BD-4EAF-89E7-D62D4EA9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69C-F082-4F79-B7C8-5276DB2E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F9CA6-3733-4A32-9074-D25FFE91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6F084-0733-4E4F-AC95-8DB5E398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52E0-E260-4DC2-8E53-48E42571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4D91D-7D06-4069-8D20-51ECF9B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20005-9A55-4418-8EB2-9A4FAA4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647F-F606-409D-81F2-20335BE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9419B-F9CA-4024-9130-C1258FC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A596-124F-4B11-B0EB-6810D4A8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CAB1-F6F6-49CD-9934-11F62118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F212B-B7CD-40B4-A0F8-3B7D19B6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A65-133D-4375-AC0D-30F61A34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21F67-E9A5-41F2-94D8-97A360B3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701F-711A-46E3-97DF-DA7BC805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61506-9492-4851-87DE-07598F77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AAE5-F269-4BBE-ADAC-00084233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2C83-A4B2-4DA7-9264-83FB577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0E3EF-68EC-4D7A-B239-79565B3F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1B20F-219C-47DB-BC0C-A583297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13BF5-B326-479E-8E11-5D1C29F9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26EC-444A-4D10-B7CB-AAD15C19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A8519-A525-4965-9B65-A8E319E3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18F-9E82-4D4F-981D-1D90FD15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5C3A6-B355-4209-BF29-710CF58C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98A-24D7-4C8C-9EC0-A7C75379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FA6-E53F-409B-AABA-FE0BF596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095-BDF2-4544-8C69-4D72848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DCDA-9E19-4B32-973E-F411D81705B0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147600" y="6391440"/>
            <a:ext cx="21312360" cy="6734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147600" y="6159600"/>
            <a:ext cx="21312360" cy="530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147600" y="13125600"/>
            <a:ext cx="21312360" cy="4856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2170-5401-4C3E-8024-42BECE0E09F7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163440" y="10478880"/>
            <a:ext cx="21291480" cy="404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63440" y="10325160"/>
            <a:ext cx="21291480" cy="201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160200" y="10887120"/>
            <a:ext cx="21294720" cy="20016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890360" y="27215640"/>
            <a:ext cx="94489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5354-852A-4157-B223-57DDBFDBF15A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0B5C-F5F7-4415-9BD0-27B0B6F5E8A1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160200" y="20651040"/>
            <a:ext cx="21275640" cy="405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162000" y="20505600"/>
            <a:ext cx="21273840" cy="203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5800" bIns="55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162000" y="21048840"/>
            <a:ext cx="21273840" cy="2124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158920" y="27215640"/>
            <a:ext cx="91807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EA42-A4DD-4D6A-9FCB-51D4B0BE5DF3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654200" y="1862280"/>
            <a:ext cx="18988200" cy="1754280"/>
            <a:chOff x="1654200" y="1862280"/>
            <a:chExt cx="18988200" cy="1754280"/>
          </a:xfrm>
        </p:grpSpPr>
        <p:sp>
          <p:nvSpPr>
            <p:cNvPr id="231" name="Text Box 2"/>
            <p:cNvSpPr/>
            <p:nvPr/>
          </p:nvSpPr>
          <p:spPr>
            <a:xfrm>
              <a:off x="3189240" y="1862280"/>
              <a:ext cx="15746760" cy="5234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60000"/>
                </a:lnSpc>
                <a:spcBef>
                  <a:spcPts val="1562"/>
                </a:spcBef>
                <a:tabLst>
                  <a:tab algn="l" pos="0"/>
                  <a:tab algn="l" pos="636480"/>
                  <a:tab algn="l" pos="1273320"/>
                  <a:tab algn="l" pos="1909800"/>
                  <a:tab algn="l" pos="2546280"/>
                  <a:tab algn="l" pos="3182760"/>
                  <a:tab algn="l" pos="3819600"/>
                  <a:tab algn="l" pos="4456080"/>
                  <a:tab algn="l" pos="5092560"/>
                  <a:tab algn="l" pos="5729400"/>
                  <a:tab algn="l" pos="6365880"/>
                  <a:tab algn="l" pos="7002360"/>
                  <a:tab algn="l" pos="7639200"/>
                  <a:tab algn="l" pos="8275680"/>
                  <a:tab algn="l" pos="8912160"/>
                  <a:tab algn="l" pos="9548640"/>
                  <a:tab algn="l" pos="10185480"/>
                  <a:tab algn="l" pos="10821960"/>
                </a:tabLst>
              </a:pPr>
              <a:r>
                <a:rPr b="1" lang="zh-TW" sz="5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一種影像對比強化的變分模型研究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654200" y="2640240"/>
              <a:ext cx="189882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XX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28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0" lang="en-US" sz="2800" spc="-1" strike="noStrike">
                  <a:solidFill>
                    <a:srgbClr val="0000ff"/>
                  </a:solidFill>
                  <a:latin typeface="微軟正黑體"/>
                  <a:ea typeface="Arial Narrow"/>
                </a:rPr>
                <a:t>syyang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116000" y="4024440"/>
            <a:ext cx="19635840" cy="2085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16743240" y="39600"/>
            <a:ext cx="4730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</a:rPr>
              <a:t>National Central University, Taiwan, June  01, 2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198440" y="571680"/>
            <a:ext cx="19794600" cy="704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3113: </a:t>
            </a:r>
            <a:r>
              <a:rPr b="1" lang="zh-TW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數學影像處理專題期末海報展示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122480" y="6434280"/>
            <a:ext cx="19635840" cy="416376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084320" y="18626040"/>
            <a:ext cx="19634040" cy="60930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084320" y="24936480"/>
            <a:ext cx="19634040" cy="19699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236600" y="25141320"/>
            <a:ext cx="191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084320" y="27125640"/>
            <a:ext cx="19634040" cy="23382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049400" y="27735120"/>
            <a:ext cx="199436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206360" y="1870236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236600" y="6486480"/>
            <a:ext cx="12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084320" y="4086360"/>
            <a:ext cx="82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206000" y="4771800"/>
            <a:ext cx="19508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287360" y="7132680"/>
            <a:ext cx="1934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287360" y="2503980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287360" y="25547760"/>
            <a:ext cx="19227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236600" y="27174960"/>
            <a:ext cx="98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216080" y="19307160"/>
            <a:ext cx="8138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101600" y="10848960"/>
            <a:ext cx="19634400" cy="74898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200240" y="11010960"/>
            <a:ext cx="115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419120" y="11704680"/>
            <a:ext cx="8134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2"/>
          <a:stretch/>
        </p:blipFill>
        <p:spPr>
          <a:xfrm>
            <a:off x="1049400" y="566640"/>
            <a:ext cx="2139840" cy="1806840"/>
          </a:xfrm>
          <a:prstGeom prst="rect">
            <a:avLst/>
          </a:prstGeom>
          <a:ln w="0">
            <a:noFill/>
          </a:ln>
        </p:spPr>
      </p:pic>
      <p:sp>
        <p:nvSpPr>
          <p:cNvPr id="255" name="文字方塊 1"/>
          <p:cNvSpPr/>
          <p:nvPr/>
        </p:nvSpPr>
        <p:spPr>
          <a:xfrm>
            <a:off x="17651520" y="542124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5-02-15T12:10:06Z</dcterms:modified>
  <cp:revision>205</cp:revision>
  <dc:subject/>
  <dc:title>poster template</dc:title>
</cp:coreProperties>
</file>