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30279975" cy="4280693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B2E-AAE5-4509-BC0B-B17C173B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512-B830-4B26-A4FB-C57784F8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9F0-9740-4898-8B7B-65900688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D63-CF93-4662-83DD-6341FAD6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F03D-45CA-46A5-9E25-FD88183A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BD9A-D752-480D-B6BC-0A1A846D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FAAB-5278-482C-8AFF-A851E207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DD28-C132-4DFB-BBFA-183B4B6E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3B60-6F72-42CB-909F-635EA514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70F1-7BCD-4DA8-8CBA-ECCD0A68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301B-3C97-40D1-84DC-9E7146C2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61D-90A6-4325-B017-BA1031A3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464F-AFE0-4CCF-8FB0-58E6A474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63DA-B611-4C47-8E29-2E1A3182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0F3-F5E9-4E15-8915-3E331717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8E13-9BE2-4F09-977E-A2719D39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E302-4083-409B-83FD-CA4B6CD6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67CB1-9B7B-48FA-B220-AD8C5BA6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D7122-25DF-4204-AF9D-D6CB9237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2C68-6E14-43AF-8748-35E2A1A0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52D3-D434-44AC-AB07-D5B0DCB3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DF16-B36F-4A80-AF03-9C9E8F1B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E6E-2662-41EE-9125-8DB4A5E9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CD0C-55FA-42BE-AF4C-16AF084E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3188-314D-48EC-A85B-F0273F5D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B559-CB96-47EE-8D3A-C7336E4F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9792-2228-46DC-BC7F-E4D9D769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2F96-0D12-465D-B7FE-BA9F1137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4526-C21A-4B64-AC8D-11E732CE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CA527-3053-454F-9D55-B3F4247C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183C-A3FC-406F-8EF6-5DAF5F91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D640-C31D-4A28-A2ED-C97DEDCF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0272-9F89-49C9-8BFB-18E866FB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E0E-6095-4A5C-9637-CB1BF465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BAE4-1F89-45E4-BBFB-4D9E736A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7E73-6F26-4DCC-A992-A2D3ED75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6D7F-88C7-4A88-BC70-C350C39F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FED00-8B89-4BFE-BF88-F61E97C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45761-46B6-449E-9551-D9FB9C12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CFBE4-8CFB-4715-83BA-0B211793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A396-EC6C-4BF5-AC4E-3271FAC5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4519-921C-4171-99CF-0CB70FA5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BD901-801F-4B6F-9AF6-A85F0118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BB58A-11AA-4F35-B25D-85099CB0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581-FDE7-4572-BF30-6E8F3BFF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7545C-3E9E-4E7B-9907-74749D10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5408-9869-4385-BAFB-4A748DFB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91315-8B23-423A-A7B9-D39703B8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AFFBF-A9DA-4BD2-9997-F9C02836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1FAEC-0DD1-46B7-A2C1-A3E5B300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27F80-97C5-403F-9E94-BC7F62C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33D3E-1A10-4434-BCD3-67D4F88A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605F-96DD-4BDE-B329-15C119C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9B45-43D8-41F4-8C84-95696FDF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DF5DD-5FF2-4578-90B1-A2C0BFBE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376-2366-47BB-9318-ADF17E8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0427D-EF9E-42BE-8D95-57A0BA21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2A1-0AEE-43C8-AE76-726AB2D0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176-6ABB-4EED-B60C-84785EE8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896-1D30-4E1E-B985-1616C6BA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BAD8-11CF-40B9-994B-A994DBC688F6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08080" y="9047160"/>
            <a:ext cx="29874960" cy="953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8080" y="8718480"/>
            <a:ext cx="29874960" cy="752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208080" y="18579960"/>
            <a:ext cx="29874960" cy="689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166F-0E0F-4F1B-9B43-43AA5A54863C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230040" y="14834160"/>
            <a:ext cx="29848320" cy="571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28600" y="14616000"/>
            <a:ext cx="29849760" cy="28584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7040" bIns="77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60" y="15411600"/>
            <a:ext cx="29853000" cy="284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49240" y="38527200"/>
            <a:ext cx="1324764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0C2C-FE74-437D-9A70-731C34784253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D8EC-99B9-41EE-B110-1E0643ED129F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225360" y="29235240"/>
            <a:ext cx="29826000" cy="5716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227160" y="29027520"/>
            <a:ext cx="29824200" cy="287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8480" bIns="78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227160" y="29795760"/>
            <a:ext cx="29824200" cy="3031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94320" bIns="9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027240" y="38527200"/>
            <a:ext cx="1287000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42F9-E2E6-4F2D-A034-38DBC82C3F2F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hyperlink" Target="mailto:xxxx@math.ncu.edu.tw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441440" y="2638440"/>
            <a:ext cx="27739800" cy="2576880"/>
            <a:chOff x="1441440" y="2638440"/>
            <a:chExt cx="27739800" cy="2576880"/>
          </a:xfrm>
        </p:grpSpPr>
        <p:sp>
          <p:nvSpPr>
            <p:cNvPr id="231" name="Text Box 2"/>
            <p:cNvSpPr/>
            <p:nvPr/>
          </p:nvSpPr>
          <p:spPr>
            <a:xfrm>
              <a:off x="1441440" y="2638440"/>
              <a:ext cx="27739800" cy="7520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72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一種影像對比強化的變分模型研究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441440" y="3737520"/>
              <a:ext cx="27632520" cy="14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XX</a:t>
              </a: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，國立中央大學數學系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，國立中央大學數學系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2"/>
                </a:rPr>
                <a:t>syyang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432080" y="5697360"/>
            <a:ext cx="27795240" cy="29512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23553720" y="57240"/>
            <a:ext cx="669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Times New Roman"/>
              </a:rPr>
              <a:t>National Central University, Taiwan, June  01, 2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547640" y="809640"/>
            <a:ext cx="28022760" cy="100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3113: </a:t>
            </a:r>
            <a:r>
              <a:rPr b="1" lang="zh-TW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數學影像處理專題期末海報展示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441440" y="9109080"/>
            <a:ext cx="27795600" cy="5892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386000" y="26368200"/>
            <a:ext cx="27795600" cy="86234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386000" y="35301240"/>
            <a:ext cx="27795600" cy="27874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601640" y="35590320"/>
            <a:ext cx="271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386000" y="38398320"/>
            <a:ext cx="27795600" cy="33116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338120" y="39261960"/>
            <a:ext cx="2823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560600" y="26474760"/>
            <a:ext cx="102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601640" y="9182160"/>
            <a:ext cx="175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386000" y="5784840"/>
            <a:ext cx="1169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560240" y="6773040"/>
            <a:ext cx="27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674720" y="10096560"/>
            <a:ext cx="273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674720" y="35445600"/>
            <a:ext cx="98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674720" y="36166320"/>
            <a:ext cx="2721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601640" y="38469960"/>
            <a:ext cx="138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573200" y="27331920"/>
            <a:ext cx="115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411200" y="15357600"/>
            <a:ext cx="27795600" cy="106027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550880" y="15587640"/>
            <a:ext cx="163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625040" y="16570440"/>
            <a:ext cx="118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3"/>
          <a:stretch/>
        </p:blipFill>
        <p:spPr>
          <a:xfrm>
            <a:off x="1338120" y="803160"/>
            <a:ext cx="3027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5-02-15T12:06:42Z</dcterms:modified>
  <cp:revision>202</cp:revision>
  <dc:subject/>
  <dc:title>poster template</dc:title>
</cp:coreProperties>
</file>