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</p:sldIdLst>
  <p:sldSz cx="30279975" cy="42806938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D7EB-871D-4255-B06A-58006E5A1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26880" y="1714320"/>
            <a:ext cx="2573820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26880" y="9037800"/>
            <a:ext cx="2573820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026880" y="23945040"/>
            <a:ext cx="2573820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6A55-61C1-4A23-8056-4CA1776F4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26880" y="1714320"/>
            <a:ext cx="2573820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26880" y="9037800"/>
            <a:ext cx="1256004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6215480" y="9037800"/>
            <a:ext cx="1256004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26880" y="23945040"/>
            <a:ext cx="1256004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6215480" y="23945040"/>
            <a:ext cx="1256004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098D-3EB2-4E31-B36E-1C88EAB3F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26880" y="1714320"/>
            <a:ext cx="2573820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26880" y="9037800"/>
            <a:ext cx="828756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729160" y="9037800"/>
            <a:ext cx="828756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20431440" y="9037800"/>
            <a:ext cx="828756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026880" y="23945040"/>
            <a:ext cx="828756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11729160" y="23945040"/>
            <a:ext cx="828756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20431440" y="23945040"/>
            <a:ext cx="828756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E7FF-5215-476E-A08C-780505ED9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9F845-94E1-4413-B375-BB9682F57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26880" y="1714320"/>
            <a:ext cx="2573820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3026880" y="9037800"/>
            <a:ext cx="25738200" cy="285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4311B-C558-4913-BE3C-1686DD40F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26880" y="1714320"/>
            <a:ext cx="2573820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26880" y="9037800"/>
            <a:ext cx="25738200" cy="2854008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6448F-04FB-443E-884C-1AA45CEA3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26880" y="1714320"/>
            <a:ext cx="2573820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26880" y="9037800"/>
            <a:ext cx="12560040" cy="2854008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16215480" y="9037800"/>
            <a:ext cx="12560040" cy="2854008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14355-2E63-4A80-BA7A-E9E680CFE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26880" y="1714320"/>
            <a:ext cx="2573820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A1330-3BC4-4030-94FC-57B160216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3026880" y="1714320"/>
            <a:ext cx="25738200" cy="330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3DADA-3A27-477F-BE60-94FE802AC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26880" y="1714320"/>
            <a:ext cx="2573820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26880" y="9037800"/>
            <a:ext cx="1256004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6215480" y="9037800"/>
            <a:ext cx="12560040" cy="2854008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026880" y="23945040"/>
            <a:ext cx="1256004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7BB46-78DF-4624-A5DF-49111AABE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26880" y="1714320"/>
            <a:ext cx="2573820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026880" y="9037800"/>
            <a:ext cx="25738200" cy="285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BC82-65DF-4495-9DC7-6F4470358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26880" y="1714320"/>
            <a:ext cx="2573820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26880" y="9037800"/>
            <a:ext cx="12560040" cy="2854008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6215480" y="9037800"/>
            <a:ext cx="1256004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6215480" y="23945040"/>
            <a:ext cx="1256004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B708F-56B4-440F-8D2F-59DB6A56B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26880" y="1714320"/>
            <a:ext cx="2573820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26880" y="9037800"/>
            <a:ext cx="1256004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6215480" y="9037800"/>
            <a:ext cx="1256004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026880" y="23945040"/>
            <a:ext cx="2573820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760EA-A484-4D31-BDB4-C81A8D244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26880" y="1714320"/>
            <a:ext cx="2573820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26880" y="9037800"/>
            <a:ext cx="2573820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26880" y="23945040"/>
            <a:ext cx="2573820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F6F6B-14B0-4013-B2D8-062E787EE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26880" y="1714320"/>
            <a:ext cx="2573820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26880" y="9037800"/>
            <a:ext cx="1256004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6215480" y="9037800"/>
            <a:ext cx="1256004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026880" y="23945040"/>
            <a:ext cx="1256004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6215480" y="23945040"/>
            <a:ext cx="1256004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296F7-B3CD-4CC7-B00C-DA381F00D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26880" y="1714320"/>
            <a:ext cx="2573820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26880" y="9037800"/>
            <a:ext cx="828756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729160" y="9037800"/>
            <a:ext cx="828756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0431440" y="9037800"/>
            <a:ext cx="828756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3026880" y="23945040"/>
            <a:ext cx="828756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11729160" y="23945040"/>
            <a:ext cx="828756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20431440" y="23945040"/>
            <a:ext cx="828756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14547-FE5F-4BEC-ACED-838C26D56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1DBA0D-9103-48AF-AD99-67CEA0CE9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26880" y="1714320"/>
            <a:ext cx="2573820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3026880" y="9037800"/>
            <a:ext cx="25738200" cy="285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11562A-C13E-44C4-9AB1-0E2B04B7F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26880" y="1714320"/>
            <a:ext cx="2573820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26880" y="9037800"/>
            <a:ext cx="25738200" cy="2854008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DE913E-BC84-4ADD-8407-5F1F3E9F6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26880" y="1714320"/>
            <a:ext cx="2573820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26880" y="9037800"/>
            <a:ext cx="12560040" cy="2854008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6215480" y="9037800"/>
            <a:ext cx="12560040" cy="2854008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18D08C-9A3E-495B-A03C-AFE88B1CD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26880" y="1714320"/>
            <a:ext cx="2573820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A287DA-C4E4-4F40-B482-4C46FA7BA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26880" y="1714320"/>
            <a:ext cx="2573820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26880" y="9037800"/>
            <a:ext cx="25738200" cy="2854008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590A-D6B9-401A-B4F1-4051F8C4E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3026880" y="1714320"/>
            <a:ext cx="25738200" cy="330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9E3FDB-9297-4538-BE53-4814C6358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26880" y="1714320"/>
            <a:ext cx="2573820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26880" y="9037800"/>
            <a:ext cx="1256004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6215480" y="9037800"/>
            <a:ext cx="12560040" cy="2854008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026880" y="23945040"/>
            <a:ext cx="1256004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B871B5-4949-4625-9361-ECF6C4CFE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26880" y="1714320"/>
            <a:ext cx="2573820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26880" y="9037800"/>
            <a:ext cx="12560040" cy="2854008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6215480" y="9037800"/>
            <a:ext cx="1256004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6215480" y="23945040"/>
            <a:ext cx="1256004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8A16AF-5BF8-448F-B026-C99046F91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26880" y="1714320"/>
            <a:ext cx="2573820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26880" y="9037800"/>
            <a:ext cx="1256004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16215480" y="9037800"/>
            <a:ext cx="1256004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3026880" y="23945040"/>
            <a:ext cx="2573820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DC7C78-DD25-42AB-AD8D-FC3BFBCF7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26880" y="1714320"/>
            <a:ext cx="2573820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26880" y="9037800"/>
            <a:ext cx="2573820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026880" y="23945040"/>
            <a:ext cx="2573820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78DC05-004A-4162-8A21-2460892B3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26880" y="1714320"/>
            <a:ext cx="2573820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26880" y="9037800"/>
            <a:ext cx="1256004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6215480" y="9037800"/>
            <a:ext cx="1256004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3026880" y="23945040"/>
            <a:ext cx="1256004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16215480" y="23945040"/>
            <a:ext cx="1256004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7F3E80-8770-4957-99EB-A6AB61969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26880" y="1714320"/>
            <a:ext cx="2573820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26880" y="9037800"/>
            <a:ext cx="828756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1729160" y="9037800"/>
            <a:ext cx="828756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20431440" y="9037800"/>
            <a:ext cx="828756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3026880" y="23945040"/>
            <a:ext cx="828756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11729160" y="23945040"/>
            <a:ext cx="828756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20431440" y="23945040"/>
            <a:ext cx="828756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AC13E2-E302-45FC-9F89-F168C436D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1FDD41-7F0F-441B-AD11-A9138BC99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26880" y="1714320"/>
            <a:ext cx="2573820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3026880" y="9037800"/>
            <a:ext cx="25738200" cy="285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1575FF-2BB8-4241-A4F3-ED4371CFB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26880" y="1714320"/>
            <a:ext cx="2573820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26880" y="9037800"/>
            <a:ext cx="25738200" cy="2854008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FDDC37-E70B-4D00-AA02-B55586FFC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26880" y="1714320"/>
            <a:ext cx="2573820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26880" y="9037800"/>
            <a:ext cx="12560040" cy="2854008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16215480" y="9037800"/>
            <a:ext cx="12560040" cy="2854008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0DC9-B551-409A-B454-81BAEA958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26880" y="1714320"/>
            <a:ext cx="2573820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26880" y="9037800"/>
            <a:ext cx="12560040" cy="2854008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6215480" y="9037800"/>
            <a:ext cx="12560040" cy="2854008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5639E2-403B-487A-AF8E-3A777E7F2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26880" y="1714320"/>
            <a:ext cx="2573820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AD2706-6E25-4917-9A77-6A58FBBDE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3026880" y="1714320"/>
            <a:ext cx="25738200" cy="330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A539E3-2511-434F-A524-F53E28926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26880" y="1714320"/>
            <a:ext cx="2573820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26880" y="9037800"/>
            <a:ext cx="1256004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16215480" y="9037800"/>
            <a:ext cx="12560040" cy="2854008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3026880" y="23945040"/>
            <a:ext cx="1256004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3272FD-ACD7-4089-A717-7FA0A955C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26880" y="1714320"/>
            <a:ext cx="2573820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26880" y="9037800"/>
            <a:ext cx="12560040" cy="2854008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16215480" y="9037800"/>
            <a:ext cx="1256004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6215480" y="23945040"/>
            <a:ext cx="1256004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7E0A6B-A0C7-4814-B580-5295BF417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26880" y="1714320"/>
            <a:ext cx="2573820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26880" y="9037800"/>
            <a:ext cx="1256004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16215480" y="9037800"/>
            <a:ext cx="1256004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26880" y="23945040"/>
            <a:ext cx="2573820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87DFFC-F2AF-4BB1-8376-6C425FE23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26880" y="1714320"/>
            <a:ext cx="2573820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26880" y="9037800"/>
            <a:ext cx="2573820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026880" y="23945040"/>
            <a:ext cx="2573820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676DE9-C9A1-4C63-9075-92A4E26C0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26880" y="1714320"/>
            <a:ext cx="2573820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26880" y="9037800"/>
            <a:ext cx="1256004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16215480" y="9037800"/>
            <a:ext cx="1256004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3026880" y="23945040"/>
            <a:ext cx="1256004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16215480" y="23945040"/>
            <a:ext cx="1256004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278305-CFD6-41D5-A6C2-341E0C7BB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26880" y="1714320"/>
            <a:ext cx="2573820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26880" y="9037800"/>
            <a:ext cx="828756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11729160" y="9037800"/>
            <a:ext cx="828756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20431440" y="9037800"/>
            <a:ext cx="828756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3026880" y="23945040"/>
            <a:ext cx="828756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11729160" y="23945040"/>
            <a:ext cx="828756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20431440" y="23945040"/>
            <a:ext cx="828756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CF1108-BB8D-47EB-A8B2-BAD4EE28A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8BBB25-D2E3-4D81-AF54-07BFB3F3E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26880" y="1714320"/>
            <a:ext cx="2573820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1DFB-2E95-4BDB-B384-C95EE5BF2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26880" y="1714320"/>
            <a:ext cx="2573820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3026880" y="9037800"/>
            <a:ext cx="25738200" cy="285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D9CD60-B379-4016-B601-9A8AA5E6F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26880" y="1714320"/>
            <a:ext cx="2573820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26880" y="9037800"/>
            <a:ext cx="25738200" cy="2854008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26DD45-E53A-4F43-B8F3-CFB56DF04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26880" y="1714320"/>
            <a:ext cx="2573820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26880" y="9037800"/>
            <a:ext cx="12560040" cy="2854008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16215480" y="9037800"/>
            <a:ext cx="12560040" cy="2854008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DF7329-4675-43CE-B881-ED73EBE3D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26880" y="1714320"/>
            <a:ext cx="2573820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12BC8B-A214-41A6-B8E3-F368A812E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3026880" y="1714320"/>
            <a:ext cx="25738200" cy="330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8882BC-AE98-4DA4-ADA3-779BED1C8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26880" y="1714320"/>
            <a:ext cx="2573820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26880" y="9037800"/>
            <a:ext cx="1256004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16215480" y="9037800"/>
            <a:ext cx="12560040" cy="2854008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3026880" y="23945040"/>
            <a:ext cx="1256004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251C8E-646E-4A87-89C1-DDC74E1FA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026880" y="1714320"/>
            <a:ext cx="2573820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26880" y="9037800"/>
            <a:ext cx="12560040" cy="2854008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16215480" y="9037800"/>
            <a:ext cx="1256004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16215480" y="23945040"/>
            <a:ext cx="1256004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DC2052-F0EC-4665-8D57-61CEB1F98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26880" y="1714320"/>
            <a:ext cx="2573820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26880" y="9037800"/>
            <a:ext cx="1256004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16215480" y="9037800"/>
            <a:ext cx="1256004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3026880" y="23945040"/>
            <a:ext cx="2573820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A3F2B4-2578-4116-8132-487397727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026880" y="1714320"/>
            <a:ext cx="2573820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026880" y="9037800"/>
            <a:ext cx="2573820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026880" y="23945040"/>
            <a:ext cx="2573820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3182C4-9474-474B-8192-BD9D5E57F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26880" y="1714320"/>
            <a:ext cx="2573820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026880" y="9037800"/>
            <a:ext cx="1256004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16215480" y="9037800"/>
            <a:ext cx="1256004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3026880" y="23945040"/>
            <a:ext cx="1256004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16215480" y="23945040"/>
            <a:ext cx="1256004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A89EEE-9B7A-424C-B82D-B93DB01EB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26880" y="1714320"/>
            <a:ext cx="25738200" cy="330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B372-C9EB-45A5-AA05-4B8E0C2FE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26880" y="1714320"/>
            <a:ext cx="2573820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26880" y="9037800"/>
            <a:ext cx="828756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11729160" y="9037800"/>
            <a:ext cx="828756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0431440" y="9037800"/>
            <a:ext cx="828756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3026880" y="23945040"/>
            <a:ext cx="828756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11729160" y="23945040"/>
            <a:ext cx="828756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20431440" y="23945040"/>
            <a:ext cx="828756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F34BE2-CE79-41A2-8531-6E899D2A7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26880" y="1714320"/>
            <a:ext cx="2573820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26880" y="9037800"/>
            <a:ext cx="1256004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16215480" y="9037800"/>
            <a:ext cx="12560040" cy="2854008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026880" y="23945040"/>
            <a:ext cx="1256004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9335-3DB6-48FC-80CD-B4080FA6F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26880" y="1714320"/>
            <a:ext cx="2573820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26880" y="9037800"/>
            <a:ext cx="12560040" cy="2854008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16215480" y="9037800"/>
            <a:ext cx="1256004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6215480" y="23945040"/>
            <a:ext cx="1256004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EA7B-9FA6-48D8-99B2-EBDEEA580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26880" y="1714320"/>
            <a:ext cx="2573820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26880" y="9037800"/>
            <a:ext cx="1256004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6215480" y="9037800"/>
            <a:ext cx="1256004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026880" y="23945040"/>
            <a:ext cx="25738200" cy="136134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26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8E1B-28B4-4E68-902D-CB6F51C64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8"/>
          <p:cNvSpPr/>
          <p:nvPr/>
        </p:nvSpPr>
        <p:spPr>
          <a:xfrm>
            <a:off x="0" y="0"/>
            <a:ext cx="30279960" cy="4280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7600" rIns="417600" tIns="208800" bIns="208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圓角矩形 7"/>
          <p:cNvSpPr/>
          <p:nvPr/>
        </p:nvSpPr>
        <p:spPr>
          <a:xfrm>
            <a:off x="212760" y="434880"/>
            <a:ext cx="29846520" cy="41781600"/>
          </a:xfrm>
          <a:custGeom>
            <a:avLst/>
            <a:gdLst>
              <a:gd name="textAreaLeft" fmla="*/ 430920 w 29846520"/>
              <a:gd name="textAreaRight" fmla="*/ 29415600 w 29846520"/>
              <a:gd name="textAreaTop" fmla="*/ 430920 h 41781600"/>
              <a:gd name="textAreaBottom" fmla="*/ 41350680 h 41781600"/>
            </a:gdLst>
            <a:ahLst/>
            <a:rect l="textAreaLeft" t="textAreaTop" r="textAreaRight" b="textAreaBottom"/>
            <a:pathLst>
              <a:path w="21600" h="30237">
                <a:moveTo>
                  <a:pt x="1065" y="0"/>
                </a:moveTo>
                <a:arcTo wR="1065" hR="1065" stAng="16200000" swAng="-5400000"/>
                <a:lnTo>
                  <a:pt x="0" y="29172"/>
                </a:lnTo>
                <a:arcTo wR="1065" hR="1065" stAng="10800000" swAng="-5400000"/>
                <a:lnTo>
                  <a:pt x="20535" y="30237"/>
                </a:lnTo>
                <a:arcTo wR="1065" hR="1065" stAng="5400000" swAng="-5400000"/>
                <a:lnTo>
                  <a:pt x="21600" y="1065"/>
                </a:lnTo>
                <a:arcTo wR="1065" hR="1065" stAng="0" swAng="-5400000"/>
                <a:close/>
              </a:path>
            </a:pathLst>
          </a:cu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17600" rIns="417600" tIns="208800" bIns="208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026880" y="1714320"/>
            <a:ext cx="2573820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3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18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026880" y="9037800"/>
            <a:ext cx="25738200" cy="2854008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marL="1251000" indent="-1251000">
              <a:spcBef>
                <a:spcPts val="2650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9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  <a:p>
            <a:pPr lvl="1" marL="2503440" indent="-1042920">
              <a:spcBef>
                <a:spcPts val="2650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9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  <a:p>
            <a:pPr lvl="2" marL="3757680" indent="-1042920">
              <a:spcBef>
                <a:spcPts val="2650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9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  <a:p>
            <a:pPr lvl="3" marL="5008680" indent="-1043280">
              <a:spcBef>
                <a:spcPts val="2650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9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  <a:p>
            <a:pPr lvl="4" marL="6262560" indent="-1042920">
              <a:spcBef>
                <a:spcPts val="2650"/>
              </a:spcBef>
              <a:buClr>
                <a:srgbClr val="a28e6a"/>
              </a:buClr>
              <a:buFont typeface="Perpetu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9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  <a:p>
            <a:pPr lvl="5" marL="6262560" indent="-1042920">
              <a:spcBef>
                <a:spcPts val="2650"/>
              </a:spcBef>
              <a:buClr>
                <a:srgbClr val="000000"/>
              </a:buClr>
              <a:buFont typeface="Perpetu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9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  <a:p>
            <a:pPr lvl="6" marL="6262560" indent="-1042920">
              <a:spcBef>
                <a:spcPts val="2650"/>
              </a:spcBef>
              <a:buClr>
                <a:srgbClr val="000000"/>
              </a:buClr>
              <a:buFont typeface="Perpetu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9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20439000" y="38646000"/>
            <a:ext cx="8199360" cy="29736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26880" y="38527200"/>
            <a:ext cx="13120920" cy="285408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06680" y="39183840"/>
            <a:ext cx="1070280" cy="2017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400" spc="-1" strike="noStrike">
                <a:solidFill>
                  <a:srgbClr val="ffffff"/>
                </a:solidFill>
                <a:latin typeface="Franklin Gothic Book"/>
                <a:ea typeface="微軟正黑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D3FCA-F6DA-401A-B0C4-44A7EF5766F8}" type="slidenum">
              <a:rPr b="0" lang="en-US" sz="6400" spc="-1" strike="noStrike">
                <a:solidFill>
                  <a:srgbClr val="ffffff"/>
                </a:solidFill>
                <a:latin typeface="Franklin Gothic Book"/>
                <a:ea typeface="微軟正黑體"/>
              </a:rPr>
              <a:t>&lt;number&gt;</a:t>
            </a:fld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8"/>
          <p:cNvSpPr/>
          <p:nvPr/>
        </p:nvSpPr>
        <p:spPr>
          <a:xfrm>
            <a:off x="0" y="0"/>
            <a:ext cx="30279960" cy="4280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7600" rIns="417600" tIns="208800" bIns="208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圓角矩形 7"/>
          <p:cNvSpPr/>
          <p:nvPr/>
        </p:nvSpPr>
        <p:spPr>
          <a:xfrm>
            <a:off x="212760" y="434880"/>
            <a:ext cx="29846520" cy="41781600"/>
          </a:xfrm>
          <a:custGeom>
            <a:avLst/>
            <a:gdLst>
              <a:gd name="textAreaLeft" fmla="*/ 430920 w 29846520"/>
              <a:gd name="textAreaRight" fmla="*/ 29415600 w 29846520"/>
              <a:gd name="textAreaTop" fmla="*/ 430920 h 41781600"/>
              <a:gd name="textAreaBottom" fmla="*/ 41350680 h 41781600"/>
            </a:gdLst>
            <a:ahLst/>
            <a:rect l="textAreaLeft" t="textAreaTop" r="textAreaRight" b="textAreaBottom"/>
            <a:pathLst>
              <a:path w="21600" h="30237">
                <a:moveTo>
                  <a:pt x="1065" y="0"/>
                </a:moveTo>
                <a:arcTo wR="1065" hR="1065" stAng="16200000" swAng="-5400000"/>
                <a:lnTo>
                  <a:pt x="0" y="29172"/>
                </a:lnTo>
                <a:arcTo wR="1065" hR="1065" stAng="10800000" swAng="-5400000"/>
                <a:lnTo>
                  <a:pt x="20535" y="30237"/>
                </a:lnTo>
                <a:arcTo wR="1065" hR="1065" stAng="5400000" swAng="-5400000"/>
                <a:lnTo>
                  <a:pt x="21600" y="1065"/>
                </a:lnTo>
                <a:arcTo wR="1065" hR="1065" stAng="0" swAng="-5400000"/>
                <a:close/>
              </a:path>
            </a:pathLst>
          </a:cu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17600" rIns="417600" tIns="208800" bIns="208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矩形 9"/>
          <p:cNvSpPr/>
          <p:nvPr/>
        </p:nvSpPr>
        <p:spPr>
          <a:xfrm>
            <a:off x="0" y="0"/>
            <a:ext cx="30279960" cy="4280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7600" rIns="417600" tIns="208800" bIns="208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圓角矩形 10"/>
          <p:cNvSpPr/>
          <p:nvPr/>
        </p:nvSpPr>
        <p:spPr>
          <a:xfrm>
            <a:off x="216000" y="434880"/>
            <a:ext cx="29847960" cy="41775120"/>
          </a:xfrm>
          <a:custGeom>
            <a:avLst/>
            <a:gdLst>
              <a:gd name="textAreaLeft" fmla="*/ 430920 w 29847960"/>
              <a:gd name="textAreaRight" fmla="*/ 29417040 w 29847960"/>
              <a:gd name="textAreaTop" fmla="*/ 430920 h 41775120"/>
              <a:gd name="textAreaBottom" fmla="*/ 41344200 h 41775120"/>
            </a:gdLst>
            <a:ahLst/>
            <a:rect l="textAreaLeft" t="textAreaTop" r="textAreaRight" b="textAreaBottom"/>
            <a:pathLst>
              <a:path w="21600" h="30231">
                <a:moveTo>
                  <a:pt x="1065" y="0"/>
                </a:moveTo>
                <a:arcTo wR="1065" hR="1065" stAng="16200000" swAng="-5400000"/>
                <a:lnTo>
                  <a:pt x="0" y="29166"/>
                </a:lnTo>
                <a:arcTo wR="1065" hR="1065" stAng="10800000" swAng="-5400000"/>
                <a:lnTo>
                  <a:pt x="20535" y="30231"/>
                </a:lnTo>
                <a:arcTo wR="1065" hR="1065" stAng="5400000" swAng="-5400000"/>
                <a:lnTo>
                  <a:pt x="21600" y="1065"/>
                </a:lnTo>
                <a:arcTo wR="1065" hR="1065" stAng="0" swAng="-5400000"/>
                <a:close/>
              </a:path>
            </a:pathLst>
          </a:cu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17600" rIns="417600" tIns="208800" bIns="208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矩形 11"/>
          <p:cNvSpPr/>
          <p:nvPr/>
        </p:nvSpPr>
        <p:spPr>
          <a:xfrm>
            <a:off x="208080" y="9047160"/>
            <a:ext cx="29874960" cy="9532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7600" rIns="417600" tIns="208800" bIns="208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矩形 12"/>
          <p:cNvSpPr/>
          <p:nvPr/>
        </p:nvSpPr>
        <p:spPr>
          <a:xfrm>
            <a:off x="208080" y="8718480"/>
            <a:ext cx="29874960" cy="7524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7600" rIns="417600" tIns="208800" bIns="208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矩形 14"/>
          <p:cNvSpPr/>
          <p:nvPr/>
        </p:nvSpPr>
        <p:spPr>
          <a:xfrm>
            <a:off x="208080" y="18579960"/>
            <a:ext cx="29874960" cy="6890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7600" rIns="417600" tIns="208800" bIns="208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26880" y="1714320"/>
            <a:ext cx="2573820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3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18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3026880" y="9037800"/>
            <a:ext cx="25738200" cy="2854008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marL="1251000" indent="-1251000">
              <a:spcBef>
                <a:spcPts val="2650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9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  <a:p>
            <a:pPr lvl="1" marL="2503440" indent="-1042920">
              <a:spcBef>
                <a:spcPts val="2650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9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  <a:p>
            <a:pPr lvl="2" marL="3757680" indent="-1042920">
              <a:spcBef>
                <a:spcPts val="2650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9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  <a:p>
            <a:pPr lvl="3" marL="5008680" indent="-1043280">
              <a:spcBef>
                <a:spcPts val="2650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9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  <a:p>
            <a:pPr lvl="4" marL="6262560" indent="-1042920">
              <a:spcBef>
                <a:spcPts val="2650"/>
              </a:spcBef>
              <a:buClr>
                <a:srgbClr val="a28e6a"/>
              </a:buClr>
              <a:buFont typeface="Perpetu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9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  <a:p>
            <a:pPr lvl="5" marL="6262560" indent="-1042920">
              <a:spcBef>
                <a:spcPts val="2650"/>
              </a:spcBef>
              <a:buClr>
                <a:srgbClr val="000000"/>
              </a:buClr>
              <a:buFont typeface="Perpetu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9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  <a:p>
            <a:pPr lvl="6" marL="6262560" indent="-1042920">
              <a:spcBef>
                <a:spcPts val="2650"/>
              </a:spcBef>
              <a:buClr>
                <a:srgbClr val="000000"/>
              </a:buClr>
              <a:buFont typeface="Perpetu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9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20439000" y="38646000"/>
            <a:ext cx="8199360" cy="29736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026880" y="38527200"/>
            <a:ext cx="13120920" cy="285408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706680" y="39183840"/>
            <a:ext cx="1070280" cy="2017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400" spc="-1" strike="noStrike">
                <a:solidFill>
                  <a:srgbClr val="ffffff"/>
                </a:solidFill>
                <a:latin typeface="Franklin Gothic Book"/>
                <a:ea typeface="微軟正黑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DF8FC-8B15-476C-BB97-DADBDBD12085}" type="slidenum">
              <a:rPr b="0" lang="en-US" sz="6400" spc="-1" strike="noStrike">
                <a:solidFill>
                  <a:srgbClr val="ffffff"/>
                </a:solidFill>
                <a:latin typeface="Franklin Gothic Book"/>
                <a:ea typeface="微軟正黑體"/>
              </a:rPr>
              <a:t>&lt;number&gt;</a:t>
            </a:fld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矩形 8"/>
          <p:cNvSpPr/>
          <p:nvPr/>
        </p:nvSpPr>
        <p:spPr>
          <a:xfrm>
            <a:off x="0" y="0"/>
            <a:ext cx="30279960" cy="4280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7600" rIns="417600" tIns="208800" bIns="208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圓角矩形 7"/>
          <p:cNvSpPr/>
          <p:nvPr/>
        </p:nvSpPr>
        <p:spPr>
          <a:xfrm>
            <a:off x="212760" y="434880"/>
            <a:ext cx="29846520" cy="41781600"/>
          </a:xfrm>
          <a:custGeom>
            <a:avLst/>
            <a:gdLst>
              <a:gd name="textAreaLeft" fmla="*/ 430920 w 29846520"/>
              <a:gd name="textAreaRight" fmla="*/ 29415600 w 29846520"/>
              <a:gd name="textAreaTop" fmla="*/ 430920 h 41781600"/>
              <a:gd name="textAreaBottom" fmla="*/ 41350680 h 41781600"/>
            </a:gdLst>
            <a:ahLst/>
            <a:rect l="textAreaLeft" t="textAreaTop" r="textAreaRight" b="textAreaBottom"/>
            <a:pathLst>
              <a:path w="21600" h="30237">
                <a:moveTo>
                  <a:pt x="1065" y="0"/>
                </a:moveTo>
                <a:arcTo wR="1065" hR="1065" stAng="16200000" swAng="-5400000"/>
                <a:lnTo>
                  <a:pt x="0" y="29172"/>
                </a:lnTo>
                <a:arcTo wR="1065" hR="1065" stAng="10800000" swAng="-5400000"/>
                <a:lnTo>
                  <a:pt x="20535" y="30237"/>
                </a:lnTo>
                <a:arcTo wR="1065" hR="1065" stAng="5400000" swAng="-5400000"/>
                <a:lnTo>
                  <a:pt x="21600" y="1065"/>
                </a:lnTo>
                <a:arcTo wR="1065" hR="1065" stAng="0" swAng="-5400000"/>
                <a:close/>
              </a:path>
            </a:pathLst>
          </a:cu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17600" rIns="417600" tIns="208800" bIns="208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矩形 9"/>
          <p:cNvSpPr/>
          <p:nvPr/>
        </p:nvSpPr>
        <p:spPr>
          <a:xfrm>
            <a:off x="0" y="0"/>
            <a:ext cx="30279960" cy="4280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7600" rIns="417600" tIns="208800" bIns="208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圓角矩形 10"/>
          <p:cNvSpPr/>
          <p:nvPr/>
        </p:nvSpPr>
        <p:spPr>
          <a:xfrm>
            <a:off x="216000" y="434880"/>
            <a:ext cx="29847960" cy="41775120"/>
          </a:xfrm>
          <a:custGeom>
            <a:avLst/>
            <a:gdLst>
              <a:gd name="textAreaLeft" fmla="*/ 430920 w 29847960"/>
              <a:gd name="textAreaRight" fmla="*/ 29417040 w 29847960"/>
              <a:gd name="textAreaTop" fmla="*/ 430920 h 41775120"/>
              <a:gd name="textAreaBottom" fmla="*/ 41344200 h 41775120"/>
            </a:gdLst>
            <a:ahLst/>
            <a:rect l="textAreaLeft" t="textAreaTop" r="textAreaRight" b="textAreaBottom"/>
            <a:pathLst>
              <a:path w="21600" h="30231">
                <a:moveTo>
                  <a:pt x="1065" y="0"/>
                </a:moveTo>
                <a:arcTo wR="1065" hR="1065" stAng="16200000" swAng="-5400000"/>
                <a:lnTo>
                  <a:pt x="0" y="29166"/>
                </a:lnTo>
                <a:arcTo wR="1065" hR="1065" stAng="10800000" swAng="-5400000"/>
                <a:lnTo>
                  <a:pt x="20535" y="30231"/>
                </a:lnTo>
                <a:arcTo wR="1065" hR="1065" stAng="5400000" swAng="-5400000"/>
                <a:lnTo>
                  <a:pt x="21600" y="1065"/>
                </a:lnTo>
                <a:arcTo wR="1065" hR="1065" stAng="0" swAng="-5400000"/>
                <a:close/>
              </a:path>
            </a:pathLst>
          </a:cu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17600" rIns="417600" tIns="208800" bIns="208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矩形 11"/>
          <p:cNvSpPr/>
          <p:nvPr/>
        </p:nvSpPr>
        <p:spPr>
          <a:xfrm flipV="1">
            <a:off x="230040" y="14834160"/>
            <a:ext cx="29848320" cy="5713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7600" rIns="417600" tIns="208800" bIns="208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矩形 12"/>
          <p:cNvSpPr/>
          <p:nvPr/>
        </p:nvSpPr>
        <p:spPr>
          <a:xfrm>
            <a:off x="228600" y="14616000"/>
            <a:ext cx="29849760" cy="28584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7600" rIns="417600" tIns="77040" bIns="77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矩形 14"/>
          <p:cNvSpPr/>
          <p:nvPr/>
        </p:nvSpPr>
        <p:spPr>
          <a:xfrm>
            <a:off x="225360" y="15411600"/>
            <a:ext cx="29853000" cy="2840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7600" rIns="417600" tIns="75240" bIns="75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26880" y="1714320"/>
            <a:ext cx="2573820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3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18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3026880" y="9037800"/>
            <a:ext cx="25738200" cy="2854008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marL="1251000" indent="-1251000">
              <a:spcBef>
                <a:spcPts val="2650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9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  <a:p>
            <a:pPr lvl="1" marL="2503440" indent="-1042920">
              <a:spcBef>
                <a:spcPts val="2650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9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  <a:p>
            <a:pPr lvl="2" marL="3757680" indent="-1042920">
              <a:spcBef>
                <a:spcPts val="2650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9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  <a:p>
            <a:pPr lvl="3" marL="5008680" indent="-1043280">
              <a:spcBef>
                <a:spcPts val="2650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9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  <a:p>
            <a:pPr lvl="4" marL="6262560" indent="-1042920">
              <a:spcBef>
                <a:spcPts val="2650"/>
              </a:spcBef>
              <a:buClr>
                <a:srgbClr val="a28e6a"/>
              </a:buClr>
              <a:buFont typeface="Perpetu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9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  <a:p>
            <a:pPr lvl="5" marL="6262560" indent="-1042920">
              <a:spcBef>
                <a:spcPts val="2650"/>
              </a:spcBef>
              <a:buClr>
                <a:srgbClr val="000000"/>
              </a:buClr>
              <a:buFont typeface="Perpetu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9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  <a:p>
            <a:pPr lvl="6" marL="6262560" indent="-1042920">
              <a:spcBef>
                <a:spcPts val="2650"/>
              </a:spcBef>
              <a:buClr>
                <a:srgbClr val="000000"/>
              </a:buClr>
              <a:buFont typeface="Perpetu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9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20439000" y="38646000"/>
            <a:ext cx="8199360" cy="29736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2649240" y="38527200"/>
            <a:ext cx="13247640" cy="285408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706680" y="39174840"/>
            <a:ext cx="1070280" cy="201744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400" spc="-1" strike="noStrike">
                <a:solidFill>
                  <a:srgbClr val="ffffff"/>
                </a:solidFill>
                <a:latin typeface="Franklin Gothic Book"/>
                <a:ea typeface="微軟正黑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A45D1-54DD-4D9D-9AB1-C096B9B53EEF}" type="slidenum">
              <a:rPr b="0" lang="en-US" sz="6400" spc="-1" strike="noStrike">
                <a:solidFill>
                  <a:srgbClr val="ffffff"/>
                </a:solidFill>
                <a:latin typeface="Franklin Gothic Book"/>
                <a:ea typeface="微軟正黑體"/>
              </a:rPr>
              <a:t>&lt;number&gt;</a:t>
            </a:fld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矩形 8"/>
          <p:cNvSpPr/>
          <p:nvPr/>
        </p:nvSpPr>
        <p:spPr>
          <a:xfrm>
            <a:off x="0" y="0"/>
            <a:ext cx="30279960" cy="4280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7600" rIns="417600" tIns="208800" bIns="208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圓角矩形 7"/>
          <p:cNvSpPr/>
          <p:nvPr/>
        </p:nvSpPr>
        <p:spPr>
          <a:xfrm>
            <a:off x="212760" y="434880"/>
            <a:ext cx="29846520" cy="41781600"/>
          </a:xfrm>
          <a:custGeom>
            <a:avLst/>
            <a:gdLst>
              <a:gd name="textAreaLeft" fmla="*/ 430920 w 29846520"/>
              <a:gd name="textAreaRight" fmla="*/ 29415600 w 29846520"/>
              <a:gd name="textAreaTop" fmla="*/ 430920 h 41781600"/>
              <a:gd name="textAreaBottom" fmla="*/ 41350680 h 41781600"/>
            </a:gdLst>
            <a:ahLst/>
            <a:rect l="textAreaLeft" t="textAreaTop" r="textAreaRight" b="textAreaBottom"/>
            <a:pathLst>
              <a:path w="21600" h="30237">
                <a:moveTo>
                  <a:pt x="1065" y="0"/>
                </a:moveTo>
                <a:arcTo wR="1065" hR="1065" stAng="16200000" swAng="-5400000"/>
                <a:lnTo>
                  <a:pt x="0" y="29172"/>
                </a:lnTo>
                <a:arcTo wR="1065" hR="1065" stAng="10800000" swAng="-5400000"/>
                <a:lnTo>
                  <a:pt x="20535" y="30237"/>
                </a:lnTo>
                <a:arcTo wR="1065" hR="1065" stAng="5400000" swAng="-5400000"/>
                <a:lnTo>
                  <a:pt x="21600" y="1065"/>
                </a:lnTo>
                <a:arcTo wR="1065" hR="1065" stAng="0" swAng="-5400000"/>
                <a:close/>
              </a:path>
            </a:pathLst>
          </a:cu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17600" rIns="417600" tIns="208800" bIns="208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矩形 9"/>
          <p:cNvSpPr/>
          <p:nvPr/>
        </p:nvSpPr>
        <p:spPr>
          <a:xfrm>
            <a:off x="0" y="0"/>
            <a:ext cx="30279960" cy="4280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7600" rIns="417600" tIns="208800" bIns="208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圓角矩形 10"/>
          <p:cNvSpPr/>
          <p:nvPr/>
        </p:nvSpPr>
        <p:spPr>
          <a:xfrm>
            <a:off x="212760" y="434880"/>
            <a:ext cx="29846520" cy="41781600"/>
          </a:xfrm>
          <a:custGeom>
            <a:avLst/>
            <a:gdLst>
              <a:gd name="textAreaLeft" fmla="*/ 430920 w 29846520"/>
              <a:gd name="textAreaRight" fmla="*/ 29415600 w 29846520"/>
              <a:gd name="textAreaTop" fmla="*/ 430920 h 41781600"/>
              <a:gd name="textAreaBottom" fmla="*/ 41350680 h 41781600"/>
            </a:gdLst>
            <a:ahLst/>
            <a:rect l="textAreaLeft" t="textAreaTop" r="textAreaRight" b="textAreaBottom"/>
            <a:pathLst>
              <a:path w="21600" h="30237">
                <a:moveTo>
                  <a:pt x="1065" y="0"/>
                </a:moveTo>
                <a:arcTo wR="1065" hR="1065" stAng="16200000" swAng="-5400000"/>
                <a:lnTo>
                  <a:pt x="0" y="29172"/>
                </a:lnTo>
                <a:arcTo wR="1065" hR="1065" stAng="10800000" swAng="-5400000"/>
                <a:lnTo>
                  <a:pt x="20535" y="30237"/>
                </a:lnTo>
                <a:arcTo wR="1065" hR="1065" stAng="5400000" swAng="-5400000"/>
                <a:lnTo>
                  <a:pt x="21600" y="1065"/>
                </a:lnTo>
                <a:arcTo wR="1065" hR="1065" stAng="0" swAng="-5400000"/>
                <a:close/>
              </a:path>
            </a:pathLst>
          </a:cu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17600" rIns="417600" tIns="208800" bIns="208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26880" y="1714320"/>
            <a:ext cx="2573820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3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18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3026880" y="9037800"/>
            <a:ext cx="25738200" cy="2854008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marL="1251000" indent="-1251000">
              <a:spcBef>
                <a:spcPts val="2650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9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  <a:p>
            <a:pPr lvl="1" marL="2503440" indent="-1042920">
              <a:spcBef>
                <a:spcPts val="2650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9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  <a:p>
            <a:pPr lvl="2" marL="3757680" indent="-1042920">
              <a:spcBef>
                <a:spcPts val="2650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9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  <a:p>
            <a:pPr lvl="3" marL="5008680" indent="-1043280">
              <a:spcBef>
                <a:spcPts val="2650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9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  <a:p>
            <a:pPr lvl="4" marL="6262560" indent="-1042920">
              <a:spcBef>
                <a:spcPts val="2650"/>
              </a:spcBef>
              <a:buClr>
                <a:srgbClr val="a28e6a"/>
              </a:buClr>
              <a:buFont typeface="Perpetu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9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  <a:p>
            <a:pPr lvl="5" marL="6262560" indent="-1042920">
              <a:spcBef>
                <a:spcPts val="2650"/>
              </a:spcBef>
              <a:buClr>
                <a:srgbClr val="000000"/>
              </a:buClr>
              <a:buFont typeface="Perpetu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9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  <a:p>
            <a:pPr lvl="6" marL="6262560" indent="-1042920">
              <a:spcBef>
                <a:spcPts val="2650"/>
              </a:spcBef>
              <a:buClr>
                <a:srgbClr val="000000"/>
              </a:buClr>
              <a:buFont typeface="Perpetu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9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dt" idx="10"/>
          </p:nvPr>
        </p:nvSpPr>
        <p:spPr>
          <a:xfrm>
            <a:off x="20439000" y="38646000"/>
            <a:ext cx="8199360" cy="29736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ftr" idx="11"/>
          </p:nvPr>
        </p:nvSpPr>
        <p:spPr>
          <a:xfrm>
            <a:off x="3026880" y="38527200"/>
            <a:ext cx="13120920" cy="285408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sldNum" idx="12"/>
          </p:nvPr>
        </p:nvSpPr>
        <p:spPr>
          <a:xfrm>
            <a:off x="706680" y="39183840"/>
            <a:ext cx="1070280" cy="2017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400" spc="-1" strike="noStrike">
                <a:solidFill>
                  <a:srgbClr val="ffffff"/>
                </a:solidFill>
                <a:latin typeface="Franklin Gothic Book"/>
                <a:ea typeface="微軟正黑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0693A-D913-4D9C-A248-D5A9DAD31B20}" type="slidenum">
              <a:rPr b="0" lang="en-US" sz="6400" spc="-1" strike="noStrike">
                <a:solidFill>
                  <a:srgbClr val="ffffff"/>
                </a:solidFill>
                <a:latin typeface="Franklin Gothic Book"/>
                <a:ea typeface="微軟正黑體"/>
              </a:rPr>
              <a:t>&lt;number&gt;</a:t>
            </a:fld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矩形 8"/>
          <p:cNvSpPr/>
          <p:nvPr/>
        </p:nvSpPr>
        <p:spPr>
          <a:xfrm>
            <a:off x="0" y="0"/>
            <a:ext cx="30279960" cy="4280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7600" rIns="417600" tIns="208800" bIns="208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圓角矩形 7"/>
          <p:cNvSpPr/>
          <p:nvPr/>
        </p:nvSpPr>
        <p:spPr>
          <a:xfrm>
            <a:off x="212760" y="434880"/>
            <a:ext cx="29846520" cy="41781600"/>
          </a:xfrm>
          <a:custGeom>
            <a:avLst/>
            <a:gdLst>
              <a:gd name="textAreaLeft" fmla="*/ 430920 w 29846520"/>
              <a:gd name="textAreaRight" fmla="*/ 29415600 w 29846520"/>
              <a:gd name="textAreaTop" fmla="*/ 430920 h 41781600"/>
              <a:gd name="textAreaBottom" fmla="*/ 41350680 h 41781600"/>
            </a:gdLst>
            <a:ahLst/>
            <a:rect l="textAreaLeft" t="textAreaTop" r="textAreaRight" b="textAreaBottom"/>
            <a:pathLst>
              <a:path w="21600" h="30237">
                <a:moveTo>
                  <a:pt x="1065" y="0"/>
                </a:moveTo>
                <a:arcTo wR="1065" hR="1065" stAng="16200000" swAng="-5400000"/>
                <a:lnTo>
                  <a:pt x="0" y="29172"/>
                </a:lnTo>
                <a:arcTo wR="1065" hR="1065" stAng="10800000" swAng="-5400000"/>
                <a:lnTo>
                  <a:pt x="20535" y="30237"/>
                </a:lnTo>
                <a:arcTo wR="1065" hR="1065" stAng="5400000" swAng="-5400000"/>
                <a:lnTo>
                  <a:pt x="21600" y="1065"/>
                </a:lnTo>
                <a:arcTo wR="1065" hR="1065" stAng="0" swAng="-5400000"/>
                <a:close/>
              </a:path>
            </a:pathLst>
          </a:cu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17600" rIns="417600" tIns="208800" bIns="208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矩形 9"/>
          <p:cNvSpPr/>
          <p:nvPr/>
        </p:nvSpPr>
        <p:spPr>
          <a:xfrm flipV="1">
            <a:off x="225360" y="29235240"/>
            <a:ext cx="29826000" cy="5716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7600" rIns="417600" tIns="208800" bIns="208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矩形 10"/>
          <p:cNvSpPr/>
          <p:nvPr/>
        </p:nvSpPr>
        <p:spPr>
          <a:xfrm>
            <a:off x="227160" y="29027520"/>
            <a:ext cx="29824200" cy="2872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7600" rIns="417600" tIns="78480" bIns="78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矩形 11"/>
          <p:cNvSpPr/>
          <p:nvPr/>
        </p:nvSpPr>
        <p:spPr>
          <a:xfrm>
            <a:off x="227160" y="29795760"/>
            <a:ext cx="29824200" cy="3031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7600" rIns="417600" tIns="94320" bIns="9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026880" y="1714320"/>
            <a:ext cx="2573820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41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3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183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3026880" y="9037800"/>
            <a:ext cx="25738200" cy="2854008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marL="1251000" indent="-1251000">
              <a:spcBef>
                <a:spcPts val="2650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9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  <a:p>
            <a:pPr lvl="1" marL="2503440" indent="-1042920">
              <a:spcBef>
                <a:spcPts val="2650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9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  <a:p>
            <a:pPr lvl="2" marL="3757680" indent="-1042920">
              <a:spcBef>
                <a:spcPts val="2650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9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  <a:p>
            <a:pPr lvl="3" marL="5008680" indent="-1043280">
              <a:spcBef>
                <a:spcPts val="2650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9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  <a:p>
            <a:pPr lvl="4" marL="6262560" indent="-1042920">
              <a:spcBef>
                <a:spcPts val="2650"/>
              </a:spcBef>
              <a:buClr>
                <a:srgbClr val="a28e6a"/>
              </a:buClr>
              <a:buFont typeface="Perpetu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9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  <a:p>
            <a:pPr lvl="5" marL="6262560" indent="-1042920">
              <a:spcBef>
                <a:spcPts val="2650"/>
              </a:spcBef>
              <a:buClr>
                <a:srgbClr val="000000"/>
              </a:buClr>
              <a:buFont typeface="Perpetu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9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  <a:p>
            <a:pPr lvl="6" marL="6262560" indent="-1042920">
              <a:spcBef>
                <a:spcPts val="2650"/>
              </a:spcBef>
              <a:buClr>
                <a:srgbClr val="000000"/>
              </a:buClr>
              <a:buFont typeface="Perpetua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9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119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13"/>
          </p:nvPr>
        </p:nvSpPr>
        <p:spPr>
          <a:xfrm>
            <a:off x="20439000" y="38646000"/>
            <a:ext cx="8199360" cy="29736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14"/>
          </p:nvPr>
        </p:nvSpPr>
        <p:spPr>
          <a:xfrm>
            <a:off x="3027240" y="38527200"/>
            <a:ext cx="12870000" cy="285408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 type="sldNum" idx="15"/>
          </p:nvPr>
        </p:nvSpPr>
        <p:spPr>
          <a:xfrm>
            <a:off x="706680" y="39174840"/>
            <a:ext cx="1070280" cy="201744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400" spc="-1" strike="noStrike">
                <a:solidFill>
                  <a:srgbClr val="ffffff"/>
                </a:solidFill>
                <a:latin typeface="Franklin Gothic Book"/>
                <a:ea typeface="微軟正黑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BBD7D-D542-46EE-8FB6-1440818ED79C}" type="slidenum">
              <a:rPr b="0" lang="en-US" sz="6400" spc="-1" strike="noStrike">
                <a:solidFill>
                  <a:srgbClr val="ffffff"/>
                </a:solidFill>
                <a:latin typeface="Franklin Gothic Book"/>
                <a:ea typeface="微軟正黑體"/>
              </a:rPr>
              <a:t>&lt;number&gt;</a:t>
            </a:fld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xxxx@math.ncu.edu.tw" TargetMode="External"/><Relationship Id="rId2" Type="http://schemas.openxmlformats.org/officeDocument/2006/relationships/hyperlink" Target="mailto:xxxx@math.ncu.edu.tw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Group 1253"/>
          <p:cNvGrpSpPr/>
          <p:nvPr/>
        </p:nvGrpSpPr>
        <p:grpSpPr>
          <a:xfrm>
            <a:off x="1441440" y="2638440"/>
            <a:ext cx="27739800" cy="2576880"/>
            <a:chOff x="1441440" y="2638440"/>
            <a:chExt cx="27739800" cy="2576880"/>
          </a:xfrm>
        </p:grpSpPr>
        <p:sp>
          <p:nvSpPr>
            <p:cNvPr id="231" name="Text Box 2"/>
            <p:cNvSpPr/>
            <p:nvPr/>
          </p:nvSpPr>
          <p:spPr>
            <a:xfrm>
              <a:off x="1441440" y="2638440"/>
              <a:ext cx="27739800" cy="752040"/>
            </a:xfrm>
            <a:prstGeom prst="rect">
              <a:avLst/>
            </a:prstGeom>
            <a:noFill/>
            <a:ln w="0">
              <a:noFill/>
            </a:ln>
            <a:effectLst>
              <a:outerShdw dist="107932" dir="2700000" blurRad="0" rotWithShape="0">
                <a:srgbClr val="e9e5d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3600" rIns="936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2251"/>
                </a:spcBef>
                <a:tabLst>
                  <a:tab algn="l" pos="0"/>
                  <a:tab algn="l" pos="903240"/>
                  <a:tab algn="l" pos="1806480"/>
                  <a:tab algn="l" pos="2709720"/>
                  <a:tab algn="l" pos="3613320"/>
                  <a:tab algn="l" pos="4516560"/>
                  <a:tab algn="l" pos="5419800"/>
                  <a:tab algn="l" pos="6323040"/>
                  <a:tab algn="l" pos="7226280"/>
                  <a:tab algn="l" pos="8129520"/>
                  <a:tab algn="l" pos="9032760"/>
                  <a:tab algn="l" pos="9936000"/>
                  <a:tab algn="l" pos="10839600"/>
                </a:tabLst>
              </a:pPr>
              <a:r>
                <a:rPr b="1" lang="zh-TW" sz="7200" spc="-1" strike="noStrike">
                  <a:solidFill>
                    <a:srgbClr val="002060"/>
                  </a:solidFill>
                  <a:latin typeface="微軟正黑體"/>
                  <a:ea typeface="微軟正黑體"/>
                </a:rPr>
                <a:t>一種影像對比強化的變分模型研究</a:t>
              </a:r>
              <a:endParaRPr b="0" lang="en-US" sz="7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Text Box 3"/>
            <p:cNvSpPr/>
            <p:nvPr/>
          </p:nvSpPr>
          <p:spPr>
            <a:xfrm>
              <a:off x="1441440" y="3737520"/>
              <a:ext cx="27632520" cy="147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3600" rIns="936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03240"/>
                  <a:tab algn="l" pos="1806480"/>
                  <a:tab algn="l" pos="2709720"/>
                  <a:tab algn="l" pos="3613320"/>
                  <a:tab algn="l" pos="4516560"/>
                  <a:tab algn="l" pos="5419800"/>
                  <a:tab algn="l" pos="6323040"/>
                  <a:tab algn="l" pos="7226280"/>
                  <a:tab algn="l" pos="8129520"/>
                  <a:tab algn="l" pos="9032760"/>
                  <a:tab algn="l" pos="9936000"/>
                  <a:tab algn="l" pos="10839600"/>
                </a:tabLst>
              </a:pPr>
              <a:r>
                <a:rPr b="1" lang="zh-TW" sz="4000" spc="-1" strike="noStrike">
                  <a:solidFill>
                    <a:srgbClr val="002060"/>
                  </a:solidFill>
                  <a:latin typeface="微軟正黑體"/>
                  <a:ea typeface="微軟正黑體"/>
                </a:rPr>
                <a:t>專題學生：</a:t>
              </a:r>
              <a:r>
                <a:rPr b="1" lang="en-US" sz="4000" spc="-1" strike="noStrike">
                  <a:solidFill>
                    <a:srgbClr val="002060"/>
                  </a:solidFill>
                  <a:latin typeface="微軟正黑體"/>
                  <a:ea typeface="微軟正黑體"/>
                </a:rPr>
                <a:t>XXX</a:t>
              </a:r>
              <a:r>
                <a:rPr b="1" lang="zh-TW" sz="4000" spc="-1" strike="noStrike">
                  <a:solidFill>
                    <a:srgbClr val="002060"/>
                  </a:solidFill>
                  <a:latin typeface="微軟正黑體"/>
                  <a:ea typeface="微軟正黑體"/>
                </a:rPr>
                <a:t>，國立中央大學數學系 </a:t>
              </a:r>
              <a:r>
                <a:rPr b="1" lang="en-US" sz="4000" spc="-1" strike="noStrike">
                  <a:solidFill>
                    <a:srgbClr val="002060"/>
                  </a:solidFill>
                  <a:latin typeface="微軟正黑體"/>
                  <a:ea typeface="微軟正黑體"/>
                </a:rPr>
                <a:t>(</a:t>
              </a:r>
              <a:r>
                <a:rPr b="1" lang="en-US" sz="4000" spc="-1" strike="noStrike" u="sng">
                  <a:solidFill>
                    <a:srgbClr val="cc9900"/>
                  </a:solidFill>
                  <a:uFillTx/>
                  <a:latin typeface="微軟正黑體"/>
                  <a:ea typeface="Arial Narrow"/>
                  <a:hlinkClick r:id="rId1"/>
                </a:rPr>
                <a:t>xxxxxxx@math.ncu.edu.tw</a:t>
              </a:r>
              <a:r>
                <a:rPr b="1" lang="en-US" sz="4000" spc="-1" strike="noStrike">
                  <a:solidFill>
                    <a:srgbClr val="002060"/>
                  </a:solidFill>
                  <a:latin typeface="微軟正黑體"/>
                  <a:ea typeface="微軟正黑體"/>
                </a:rPr>
                <a:t>)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03240"/>
                  <a:tab algn="l" pos="1806480"/>
                  <a:tab algn="l" pos="2709720"/>
                  <a:tab algn="l" pos="3613320"/>
                  <a:tab algn="l" pos="4516560"/>
                  <a:tab algn="l" pos="5419800"/>
                  <a:tab algn="l" pos="6323040"/>
                  <a:tab algn="l" pos="7226280"/>
                  <a:tab algn="l" pos="8129520"/>
                  <a:tab algn="l" pos="9032760"/>
                  <a:tab algn="l" pos="9936000"/>
                  <a:tab algn="l" pos="10839600"/>
                </a:tabLst>
              </a:pPr>
              <a:r>
                <a:rPr b="1" lang="zh-TW" sz="4000" spc="-1" strike="noStrike">
                  <a:solidFill>
                    <a:srgbClr val="002060"/>
                  </a:solidFill>
                  <a:latin typeface="微軟正黑體"/>
                  <a:ea typeface="微軟正黑體"/>
                </a:rPr>
                <a:t>指導教授：楊肅煜，國立中央大學數學系 </a:t>
              </a:r>
              <a:r>
                <a:rPr b="1" lang="en-US" sz="4000" spc="-1" strike="noStrike">
                  <a:solidFill>
                    <a:srgbClr val="002060"/>
                  </a:solidFill>
                  <a:latin typeface="微軟正黑體"/>
                  <a:ea typeface="微軟正黑體"/>
                </a:rPr>
                <a:t>(</a:t>
              </a:r>
              <a:r>
                <a:rPr b="1" lang="en-US" sz="4000" spc="-1" strike="noStrike" u="sng">
                  <a:solidFill>
                    <a:srgbClr val="cc9900"/>
                  </a:solidFill>
                  <a:uFillTx/>
                  <a:latin typeface="微軟正黑體"/>
                  <a:ea typeface="Arial Narrow"/>
                  <a:hlinkClick r:id="rId2"/>
                </a:rPr>
                <a:t>syyang@math.ncu.edu.tw</a:t>
              </a:r>
              <a:r>
                <a:rPr b="1" lang="en-US" sz="4000" spc="-1" strike="noStrike">
                  <a:solidFill>
                    <a:srgbClr val="002060"/>
                  </a:solidFill>
                  <a:latin typeface="微軟正黑體"/>
                  <a:ea typeface="微軟正黑體"/>
                </a:rPr>
                <a:t>)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3" name="Rectangle 651"/>
          <p:cNvSpPr/>
          <p:nvPr/>
        </p:nvSpPr>
        <p:spPr>
          <a:xfrm>
            <a:off x="1432080" y="5697360"/>
            <a:ext cx="27795240" cy="2951280"/>
          </a:xfrm>
          <a:prstGeom prst="rect">
            <a:avLst/>
          </a:prstGeom>
          <a:noFill/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560" rIns="885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1258"/>
          <p:cNvSpPr/>
          <p:nvPr/>
        </p:nvSpPr>
        <p:spPr>
          <a:xfrm>
            <a:off x="23553720" y="57240"/>
            <a:ext cx="6696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200" rIns="8820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en-US" sz="2400" spc="-1" strike="noStrike">
                <a:solidFill>
                  <a:srgbClr val="a6a6a6"/>
                </a:solidFill>
                <a:latin typeface="Times New Roman"/>
              </a:rPr>
              <a:t>National Central University, Taiwan, June  01, 20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2"/>
          <p:cNvSpPr/>
          <p:nvPr/>
        </p:nvSpPr>
        <p:spPr>
          <a:xfrm>
            <a:off x="1547640" y="809640"/>
            <a:ext cx="28022760" cy="10054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e9e5d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00000"/>
                </a:solidFill>
                <a:latin typeface="微軟正黑體"/>
                <a:ea typeface="微軟正黑體"/>
              </a:rPr>
              <a:t>MA3113: </a:t>
            </a:r>
            <a:r>
              <a:rPr b="1" lang="zh-TW" sz="6000" spc="-1" strike="noStrike">
                <a:solidFill>
                  <a:srgbClr val="c00000"/>
                </a:solidFill>
                <a:latin typeface="微軟正黑體"/>
                <a:ea typeface="微軟正黑體"/>
              </a:rPr>
              <a:t>數學影像處理專題期末海報展示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651"/>
          <p:cNvSpPr/>
          <p:nvPr/>
        </p:nvSpPr>
        <p:spPr>
          <a:xfrm>
            <a:off x="1441440" y="9109080"/>
            <a:ext cx="27795600" cy="5892840"/>
          </a:xfrm>
          <a:prstGeom prst="rect">
            <a:avLst/>
          </a:prstGeom>
          <a:noFill/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560" rIns="885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矩形 22"/>
          <p:cNvSpPr/>
          <p:nvPr/>
        </p:nvSpPr>
        <p:spPr>
          <a:xfrm>
            <a:off x="1386000" y="26368200"/>
            <a:ext cx="27795600" cy="8623440"/>
          </a:xfrm>
          <a:prstGeom prst="rect">
            <a:avLst/>
          </a:prstGeom>
          <a:noFill/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矩形 25"/>
          <p:cNvSpPr/>
          <p:nvPr/>
        </p:nvSpPr>
        <p:spPr>
          <a:xfrm>
            <a:off x="1386000" y="35301240"/>
            <a:ext cx="27795600" cy="2787480"/>
          </a:xfrm>
          <a:prstGeom prst="rect">
            <a:avLst/>
          </a:prstGeom>
          <a:noFill/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28728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8728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8728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文字方塊 27"/>
          <p:cNvSpPr/>
          <p:nvPr/>
        </p:nvSpPr>
        <p:spPr>
          <a:xfrm>
            <a:off x="1601640" y="35590320"/>
            <a:ext cx="27147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28728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矩形 30"/>
          <p:cNvSpPr/>
          <p:nvPr/>
        </p:nvSpPr>
        <p:spPr>
          <a:xfrm>
            <a:off x="1386000" y="38398320"/>
            <a:ext cx="27795600" cy="3311640"/>
          </a:xfrm>
          <a:prstGeom prst="rect">
            <a:avLst/>
          </a:prstGeom>
          <a:noFill/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文字方塊 31"/>
          <p:cNvSpPr/>
          <p:nvPr/>
        </p:nvSpPr>
        <p:spPr>
          <a:xfrm>
            <a:off x="1338120" y="39261960"/>
            <a:ext cx="28232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[1]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. Brezzi and A. Russo, Choosing bubbles for advection-diffusion problems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ath. Models Meth. Appl. Sci.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 (1994), pp. 571-587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[2]  A. Cangiani and E. Suli, Enhanced RFB method, </a:t>
            </a:r>
            <a:r>
              <a:rPr b="0" i="1" lang="en-US" sz="28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Numer. Math., </a:t>
            </a:r>
            <a:r>
              <a:rPr b="0" lang="en-US" sz="28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101 (2005), pp. 273-308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[3]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. P. Franca, S. L. Frey, and T. J. R. Hughes, Stabilized finite element methods: I. application to the AD model,</a:t>
            </a:r>
            <a:r>
              <a:rPr b="0" lang="en-US" sz="28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mput. Methods Appl. Mech. Engrg.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95 (1992), pp. 253-276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[4]  L. P. Franca, J. V. A. Ramalho, and F. Valentin, Multiscale and residual-free bubble functions for RAD problems, </a:t>
            </a:r>
            <a:r>
              <a:rPr b="0" i="1" lang="en-US" sz="28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Int. J. Multiscale Comput. Eng., </a:t>
            </a:r>
            <a:r>
              <a:rPr b="0" lang="en-US" sz="28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3 (2005), pp. 297-  31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[5]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. Y. Hou and X.-H. Wu, A multiscale finite element method for elliptic problems in composite materials and porous media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J. Comput. Phys.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34 (1997), pp. 169-189.</a:t>
            </a:r>
            <a:r>
              <a:rPr b="0" lang="en-US" sz="28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文字方塊 32"/>
          <p:cNvSpPr/>
          <p:nvPr/>
        </p:nvSpPr>
        <p:spPr>
          <a:xfrm>
            <a:off x="1560600" y="26474760"/>
            <a:ext cx="1022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2060"/>
                </a:solidFill>
                <a:latin typeface="微軟正黑體"/>
                <a:ea typeface="微軟正黑體"/>
              </a:rPr>
              <a:t>結果與討論</a:t>
            </a:r>
            <a:r>
              <a:rPr b="1" lang="en-US" sz="4000" spc="-1" strike="noStrike">
                <a:solidFill>
                  <a:srgbClr val="002060"/>
                </a:solidFill>
                <a:latin typeface="微軟正黑體"/>
                <a:ea typeface="微軟正黑體"/>
              </a:rPr>
              <a:t> </a:t>
            </a:r>
            <a:r>
              <a:rPr b="1" lang="en-US" sz="4000" spc="-1" strike="noStrike">
                <a:solidFill>
                  <a:srgbClr val="002060"/>
                </a:solidFill>
                <a:latin typeface="微軟正黑體"/>
                <a:ea typeface="微軟正黑體"/>
              </a:rPr>
              <a:t>(Results and discussion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文字方塊 33"/>
          <p:cNvSpPr/>
          <p:nvPr/>
        </p:nvSpPr>
        <p:spPr>
          <a:xfrm>
            <a:off x="1601640" y="9182160"/>
            <a:ext cx="1753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2060"/>
                </a:solidFill>
                <a:latin typeface="微軟正黑體"/>
                <a:ea typeface="微軟正黑體"/>
              </a:rPr>
              <a:t>研究動機和背景介紹</a:t>
            </a:r>
            <a:r>
              <a:rPr b="1" lang="en-US" sz="4000" spc="-1" strike="noStrike">
                <a:solidFill>
                  <a:srgbClr val="002060"/>
                </a:solidFill>
                <a:latin typeface="微軟正黑體"/>
                <a:ea typeface="微軟正黑體"/>
              </a:rPr>
              <a:t> </a:t>
            </a:r>
            <a:r>
              <a:rPr b="1" lang="en-US" sz="4000" spc="-1" strike="noStrike">
                <a:solidFill>
                  <a:srgbClr val="002060"/>
                </a:solidFill>
                <a:latin typeface="微軟正黑體"/>
                <a:ea typeface="微軟正黑體"/>
              </a:rPr>
              <a:t>(Motivation and introduction</a:t>
            </a:r>
            <a:r>
              <a:rPr b="1" lang="en-US" sz="4000" spc="-1" strike="noStrike">
                <a:solidFill>
                  <a:srgbClr val="00206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文字方塊 34"/>
          <p:cNvSpPr/>
          <p:nvPr/>
        </p:nvSpPr>
        <p:spPr>
          <a:xfrm>
            <a:off x="1386000" y="5784840"/>
            <a:ext cx="11690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36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2060"/>
                </a:solidFill>
                <a:latin typeface="微軟正黑體"/>
                <a:ea typeface="微軟正黑體"/>
              </a:rPr>
              <a:t>摘要</a:t>
            </a:r>
            <a:r>
              <a:rPr b="1" lang="en-US" sz="4000" spc="-1" strike="noStrike">
                <a:solidFill>
                  <a:srgbClr val="002060"/>
                </a:solidFill>
                <a:latin typeface="微軟正黑體"/>
                <a:ea typeface="微軟正黑體"/>
              </a:rPr>
              <a:t> </a:t>
            </a:r>
            <a:r>
              <a:rPr b="1" lang="en-US" sz="4000" spc="-1" strike="noStrike">
                <a:solidFill>
                  <a:srgbClr val="002060"/>
                </a:solidFill>
                <a:latin typeface="微軟正黑體"/>
                <a:ea typeface="微軟正黑體"/>
              </a:rPr>
              <a:t>(Abstract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文字方塊 35"/>
          <p:cNvSpPr/>
          <p:nvPr/>
        </p:nvSpPr>
        <p:spPr>
          <a:xfrm flipV="1" rot="10800000">
            <a:off x="1560240" y="6773040"/>
            <a:ext cx="2761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Please insert the abstract her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文字方塊 36"/>
          <p:cNvSpPr/>
          <p:nvPr/>
        </p:nvSpPr>
        <p:spPr>
          <a:xfrm>
            <a:off x="1674720" y="10096560"/>
            <a:ext cx="2737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Please insert the motivation and introduction her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文字方塊 38"/>
          <p:cNvSpPr/>
          <p:nvPr/>
        </p:nvSpPr>
        <p:spPr>
          <a:xfrm>
            <a:off x="1674720" y="35445600"/>
            <a:ext cx="986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2060"/>
                </a:solidFill>
                <a:latin typeface="微軟正黑體"/>
                <a:ea typeface="微軟正黑體"/>
              </a:rPr>
              <a:t>結論 </a:t>
            </a:r>
            <a:r>
              <a:rPr b="1" lang="en-US" sz="4000" spc="-1" strike="noStrike">
                <a:solidFill>
                  <a:srgbClr val="002060"/>
                </a:solidFill>
                <a:latin typeface="微軟正黑體"/>
                <a:ea typeface="微軟正黑體"/>
              </a:rPr>
              <a:t>(Conclusion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文字方塊 40"/>
          <p:cNvSpPr/>
          <p:nvPr/>
        </p:nvSpPr>
        <p:spPr>
          <a:xfrm>
            <a:off x="1674720" y="36166320"/>
            <a:ext cx="27219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8728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We have proposed a novel LSFEM using continuous piecewise linear elements enriched with residual-free bubbles. This enriched LSFEM not only inherits the advantages of the primitive LSFEM but also exhibits the characteristics of the residual-free bubble method. Through a series of numerical experiments, the enriched LSFEM certainly demonstrates a superior performance over the primitive LSFEMs for solving convection-dominated problems. The above results have been generalized to the system of convection-dominated equations such as the steady MHD duct flows with a high Hartmann number.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文字方塊 41"/>
          <p:cNvSpPr/>
          <p:nvPr/>
        </p:nvSpPr>
        <p:spPr>
          <a:xfrm>
            <a:off x="1601640" y="38469960"/>
            <a:ext cx="1389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2060"/>
                </a:solidFill>
                <a:latin typeface="微軟正黑體"/>
                <a:ea typeface="微軟正黑體"/>
              </a:rPr>
              <a:t>主要參考文獻</a:t>
            </a:r>
            <a:r>
              <a:rPr b="1" lang="en-US" sz="4000" spc="-1" strike="noStrike">
                <a:solidFill>
                  <a:srgbClr val="002060"/>
                </a:solidFill>
                <a:latin typeface="微軟正黑體"/>
                <a:ea typeface="微軟正黑體"/>
              </a:rPr>
              <a:t> </a:t>
            </a:r>
            <a:r>
              <a:rPr b="1" lang="en-US" sz="4000" spc="-1" strike="noStrike">
                <a:solidFill>
                  <a:srgbClr val="002060"/>
                </a:solidFill>
                <a:latin typeface="微軟正黑體"/>
                <a:ea typeface="微軟正黑體"/>
              </a:rPr>
              <a:t>(References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文字方塊 23"/>
          <p:cNvSpPr/>
          <p:nvPr/>
        </p:nvSpPr>
        <p:spPr>
          <a:xfrm>
            <a:off x="1573200" y="27331920"/>
            <a:ext cx="1152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Insert your text her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651"/>
          <p:cNvSpPr/>
          <p:nvPr/>
        </p:nvSpPr>
        <p:spPr>
          <a:xfrm>
            <a:off x="1411200" y="15357600"/>
            <a:ext cx="27795600" cy="10602720"/>
          </a:xfrm>
          <a:prstGeom prst="rect">
            <a:avLst/>
          </a:prstGeom>
          <a:noFill/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560" rIns="885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文字方塊 1"/>
          <p:cNvSpPr/>
          <p:nvPr/>
        </p:nvSpPr>
        <p:spPr>
          <a:xfrm>
            <a:off x="1550880" y="15587640"/>
            <a:ext cx="1638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2060"/>
                </a:solidFill>
                <a:latin typeface="微軟正黑體"/>
                <a:ea typeface="微軟正黑體"/>
              </a:rPr>
              <a:t>問題描述和研究方法 </a:t>
            </a:r>
            <a:r>
              <a:rPr b="1" lang="en-US" sz="4000" spc="-1" strike="noStrike">
                <a:solidFill>
                  <a:srgbClr val="002060"/>
                </a:solidFill>
                <a:latin typeface="微軟正黑體"/>
                <a:ea typeface="微軟正黑體"/>
              </a:rPr>
              <a:t>(Problem description and method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文字方塊 2"/>
          <p:cNvSpPr/>
          <p:nvPr/>
        </p:nvSpPr>
        <p:spPr>
          <a:xfrm>
            <a:off x="1625040" y="16570440"/>
            <a:ext cx="11894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Please insert the problem description and mathematical method her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" name="圖片 3" descr=""/>
          <p:cNvPicPr/>
          <p:nvPr/>
        </p:nvPicPr>
        <p:blipFill>
          <a:blip r:embed="rId3"/>
          <a:stretch/>
        </p:blipFill>
        <p:spPr>
          <a:xfrm>
            <a:off x="1338120" y="803160"/>
            <a:ext cx="3027600" cy="25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5T20:28:33Z</dcterms:created>
  <dc:creator>Suh-Yuh Yang, NCU, Taiwan</dc:creator>
  <dc:description/>
  <dc:language>en-US</dc:language>
  <cp:lastModifiedBy>Microsoft Office 使用者</cp:lastModifiedBy>
  <dcterms:modified xsi:type="dcterms:W3CDTF">2025-02-15T12:06:42Z</dcterms:modified>
  <cp:revision>202</cp:revision>
  <dc:subject/>
  <dc:title>poster template</dc:title>
</cp:coreProperties>
</file>