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21599525" cy="3024028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9AD-B399-4500-A49B-21329E36B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29E8-806C-441F-A567-3F32EDD9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62CC-D067-4FBF-9B0B-FB0F20BB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C083-7206-4F7A-A025-B1578365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6F4D1-0D10-487E-ACDC-00D751B0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D3E4-B9CD-4D39-AC3E-BC411D215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6F90-8AD3-4549-8449-FD7C7B4F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78FA-224B-4A3A-8C95-A4DB2000D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1FCDC-F052-4801-8A90-4EB97890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76B9D-43F1-4BAA-9336-1D8D104E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776F-7E30-4ABE-99E5-0E880E9DF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D1C4-4EDE-4327-B10D-F50D1F10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D253-D46D-437D-AA3B-03987B0F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CCBF3-FC0A-4675-81F4-398EFA92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841EE-00D9-4AD0-B631-226B458E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5CC3F-052C-4261-8065-A351D84D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13FD-7A3B-4484-9FEB-DA16C98A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4549-AB43-4694-A583-09C86832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EF754-4DB8-433D-A2CF-F2931AC6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ACB38-CC78-4FC8-966C-59C7348A7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24975-A43A-498E-A9E0-C738D516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8448B-2D62-4E5F-8BDF-EB84416BB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F5C4-1205-47C2-8D36-DB8736199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18F5D-008F-4FBA-91FC-B8DA06D0F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6491B-0FDF-4303-8C61-B06533BF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8B132-60FB-4DD4-AACB-7777A0D2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3379E-2AEF-458B-B126-6CDA97BA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7774B-74CC-4BD5-89F8-71289BE7F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DCD90-E5D8-457D-B533-681C7B8EB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47541-05F4-4DEB-82CE-71598F5C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521273-1F60-47FA-AFE7-CC3AA1FF1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6B3B7-1726-48E7-8F8A-A0AF37C6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B1FCE-5194-47CB-8712-71720353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E77E-41D9-476F-8E3A-D6F2488FF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A404C-AE37-45BA-8871-7FF591EA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12C09-B968-4610-91D6-20CD2DAF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20261-9077-439F-8446-DEC9EEF7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F9E17-9F4C-464E-B7F0-BC8D6533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CE023-52E9-4BD0-8EF3-8A02973B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E4664-4288-4F64-941B-17E24839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83471E-9BBE-4D2F-A282-2B88A2C68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40192-6D89-4FC3-AE34-C1E922E2B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92610-80BC-4104-9183-37F2A79F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94963A-E44F-4533-8EB9-28C9A146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B853-919E-4D05-BF49-167E9B5D8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CA0C4-8737-4BA4-932C-3D1AF688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CCED0-997C-4718-B27C-71B8DC41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97F67-8553-4C1E-B2B4-33E96A3A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A1379-6AF3-4AFC-912D-53CF050B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A43B8-D02D-420A-928C-948C83BF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4B181-106A-443F-A8C9-511E33BB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7D757-8507-4392-81F3-6A05584A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211806-470D-4A97-A4F6-CB133231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59704-2FD4-4C43-9FE6-6631E82D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EDAE9-FA82-4B54-A5A8-14A6A2AC4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158560" y="1211400"/>
            <a:ext cx="18359640" cy="233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DFB-5BB4-4E55-A53F-802DB4EE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836604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573520" y="638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215856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836604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14573520" y="16914600"/>
            <a:ext cx="591156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8F874-D77F-4F9D-8745-27053D326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562-6CCC-44AE-8B8B-9870C781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566080" y="1691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5A79-D4DB-4254-918E-63959118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5856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566080" y="6384600"/>
            <a:ext cx="895932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58560" y="16914600"/>
            <a:ext cx="18359640" cy="96159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18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6C1B-2E27-45EF-834D-13F4C6B2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158920" y="27215640"/>
            <a:ext cx="936000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503640" y="2767968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ECBA4-AC6E-4471-9C18-5E13FD012745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圓角矩形 10"/>
          <p:cNvSpPr/>
          <p:nvPr/>
        </p:nvSpPr>
        <p:spPr>
          <a:xfrm>
            <a:off x="154080" y="307800"/>
            <a:ext cx="21291480" cy="29510280"/>
          </a:xfrm>
          <a:custGeom>
            <a:avLst/>
            <a:gdLst>
              <a:gd name="textAreaLeft" fmla="*/ 307440 w 21291480"/>
              <a:gd name="textAreaRight" fmla="*/ 20984040 w 21291480"/>
              <a:gd name="textAreaTop" fmla="*/ 307440 h 29510280"/>
              <a:gd name="textAreaBottom" fmla="*/ 29202840 h 29510280"/>
            </a:gdLst>
            <a:ahLst/>
            <a:rect l="textAreaLeft" t="textAreaTop" r="textAreaRight" b="textAreaBottom"/>
            <a:pathLst>
              <a:path w="21600" h="29938">
                <a:moveTo>
                  <a:pt x="1065" y="0"/>
                </a:moveTo>
                <a:arcTo wR="1065" hR="1065" stAng="16200000" swAng="-5400000"/>
                <a:lnTo>
                  <a:pt x="0" y="28873"/>
                </a:lnTo>
                <a:arcTo wR="1065" hR="1065" stAng="10800000" swAng="-5400000"/>
                <a:lnTo>
                  <a:pt x="20535" y="29938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147600" y="6391440"/>
            <a:ext cx="21312360" cy="6734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147600" y="6159600"/>
            <a:ext cx="21312360" cy="530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147600" y="13125600"/>
            <a:ext cx="21312360" cy="4856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158920" y="27215640"/>
            <a:ext cx="936000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503640" y="2767968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A185-6B8E-4E83-B804-75867FAE2598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圓角矩形 10"/>
          <p:cNvSpPr/>
          <p:nvPr/>
        </p:nvSpPr>
        <p:spPr>
          <a:xfrm>
            <a:off x="154080" y="307800"/>
            <a:ext cx="21291480" cy="29510280"/>
          </a:xfrm>
          <a:custGeom>
            <a:avLst/>
            <a:gdLst>
              <a:gd name="textAreaLeft" fmla="*/ 307440 w 21291480"/>
              <a:gd name="textAreaRight" fmla="*/ 20984040 w 21291480"/>
              <a:gd name="textAreaTop" fmla="*/ 307440 h 29510280"/>
              <a:gd name="textAreaBottom" fmla="*/ 29202840 h 29510280"/>
            </a:gdLst>
            <a:ahLst/>
            <a:rect l="textAreaLeft" t="textAreaTop" r="textAreaRight" b="textAreaBottom"/>
            <a:pathLst>
              <a:path w="21600" h="29938">
                <a:moveTo>
                  <a:pt x="1065" y="0"/>
                </a:moveTo>
                <a:arcTo wR="1065" hR="1065" stAng="16200000" swAng="-5400000"/>
                <a:lnTo>
                  <a:pt x="0" y="28873"/>
                </a:lnTo>
                <a:arcTo wR="1065" hR="1065" stAng="10800000" swAng="-5400000"/>
                <a:lnTo>
                  <a:pt x="20535" y="29938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11"/>
          <p:cNvSpPr/>
          <p:nvPr/>
        </p:nvSpPr>
        <p:spPr>
          <a:xfrm flipV="1">
            <a:off x="163440" y="10478880"/>
            <a:ext cx="21291480" cy="4046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163440" y="10325160"/>
            <a:ext cx="21291480" cy="201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54000" bIns="54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160200" y="10887120"/>
            <a:ext cx="21294720" cy="20016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52560" bIns="52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1890360" y="27215640"/>
            <a:ext cx="944892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503640" y="2767320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B20E-0199-44BE-91EA-87F38883BE81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9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圓角矩形 10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2158920" y="27215640"/>
            <a:ext cx="936000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503640" y="2767968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E5C0-C8C3-42ED-9497-61944FE25C96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8"/>
          <p:cNvSpPr/>
          <p:nvPr/>
        </p:nvSpPr>
        <p:spPr>
          <a:xfrm>
            <a:off x="0" y="0"/>
            <a:ext cx="21599640" cy="302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圓角矩形 7"/>
          <p:cNvSpPr/>
          <p:nvPr/>
        </p:nvSpPr>
        <p:spPr>
          <a:xfrm>
            <a:off x="152280" y="307800"/>
            <a:ext cx="21290040" cy="29514960"/>
          </a:xfrm>
          <a:custGeom>
            <a:avLst/>
            <a:gdLst>
              <a:gd name="textAreaLeft" fmla="*/ 307440 w 21290040"/>
              <a:gd name="textAreaRight" fmla="*/ 20982600 w 21290040"/>
              <a:gd name="textAreaTop" fmla="*/ 307440 h 29514960"/>
              <a:gd name="textAreaBottom" fmla="*/ 29207520 h 29514960"/>
            </a:gdLst>
            <a:ahLst/>
            <a:rect l="textAreaLeft" t="textAreaTop" r="textAreaRight" b="textAreaBottom"/>
            <a:pathLst>
              <a:path w="21600" h="29945">
                <a:moveTo>
                  <a:pt x="1065" y="0"/>
                </a:moveTo>
                <a:arcTo wR="1065" hR="1065" stAng="16200000" swAng="-5400000"/>
                <a:lnTo>
                  <a:pt x="0" y="28880"/>
                </a:lnTo>
                <a:arcTo wR="1065" hR="1065" stAng="10800000" swAng="-5400000"/>
                <a:lnTo>
                  <a:pt x="20535" y="29945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矩形 9"/>
          <p:cNvSpPr/>
          <p:nvPr/>
        </p:nvSpPr>
        <p:spPr>
          <a:xfrm flipV="1">
            <a:off x="160200" y="20651040"/>
            <a:ext cx="21275640" cy="4050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147600" bIns="147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162000" y="20505600"/>
            <a:ext cx="21273840" cy="2034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55800" bIns="55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11"/>
          <p:cNvSpPr/>
          <p:nvPr/>
        </p:nvSpPr>
        <p:spPr>
          <a:xfrm>
            <a:off x="162000" y="21048840"/>
            <a:ext cx="21273840" cy="21240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94840" rIns="294840" tIns="64800" bIns="64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58560" y="1211400"/>
            <a:ext cx="18359640" cy="5040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9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29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2158560" y="6384600"/>
            <a:ext cx="18359640" cy="201596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882720" indent="-882720">
              <a:spcBef>
                <a:spcPts val="1874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1" marL="1766880" indent="-736560">
              <a:spcBef>
                <a:spcPts val="18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2" marL="2654280" indent="-736560">
              <a:spcBef>
                <a:spcPts val="18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3" marL="3537000" indent="-736560">
              <a:spcBef>
                <a:spcPts val="1874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4" marL="4422600" indent="-736560">
              <a:spcBef>
                <a:spcPts val="1874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5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  <a:p>
            <a:pPr lvl="6" marL="4422600" indent="-736560">
              <a:spcBef>
                <a:spcPts val="1874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8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14579280" y="27300240"/>
            <a:ext cx="5848200" cy="210024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2158920" y="27215640"/>
            <a:ext cx="9180720" cy="201636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503640" y="27673200"/>
            <a:ext cx="763560" cy="14256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ACF5-B6BA-4115-A7A2-9D8D53394FE7}" type="slidenum">
              <a:rPr b="0" lang="en-US" sz="45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xxxx@math.ncu.edu.tw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253"/>
          <p:cNvGrpSpPr/>
          <p:nvPr/>
        </p:nvGrpSpPr>
        <p:grpSpPr>
          <a:xfrm>
            <a:off x="1654200" y="1862280"/>
            <a:ext cx="18988200" cy="1754280"/>
            <a:chOff x="1654200" y="1862280"/>
            <a:chExt cx="18988200" cy="1754280"/>
          </a:xfrm>
        </p:grpSpPr>
        <p:sp>
          <p:nvSpPr>
            <p:cNvPr id="231" name="Text Box 2"/>
            <p:cNvSpPr/>
            <p:nvPr/>
          </p:nvSpPr>
          <p:spPr>
            <a:xfrm>
              <a:off x="3189240" y="1862280"/>
              <a:ext cx="15746760" cy="5234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e9e5d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spAutoFit/>
            </a:bodyPr>
            <a:p>
              <a:pPr algn="ctr">
                <a:lnSpc>
                  <a:spcPct val="60000"/>
                </a:lnSpc>
                <a:spcBef>
                  <a:spcPts val="1562"/>
                </a:spcBef>
                <a:tabLst>
                  <a:tab algn="l" pos="0"/>
                  <a:tab algn="l" pos="636480"/>
                  <a:tab algn="l" pos="1273320"/>
                  <a:tab algn="l" pos="1909800"/>
                  <a:tab algn="l" pos="2546280"/>
                  <a:tab algn="l" pos="3182760"/>
                  <a:tab algn="l" pos="3819600"/>
                  <a:tab algn="l" pos="4456080"/>
                  <a:tab algn="l" pos="5092560"/>
                  <a:tab algn="l" pos="5729400"/>
                  <a:tab algn="l" pos="6365880"/>
                  <a:tab algn="l" pos="7002360"/>
                  <a:tab algn="l" pos="7639200"/>
                  <a:tab algn="l" pos="8275680"/>
                  <a:tab algn="l" pos="8912160"/>
                  <a:tab algn="l" pos="9548640"/>
                  <a:tab algn="l" pos="10185480"/>
                  <a:tab algn="l" pos="10821960"/>
                </a:tabLst>
              </a:pPr>
              <a:r>
                <a:rPr b="1" lang="zh-TW" sz="5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一種影像對比強化的變分模型研究</a:t>
              </a:r>
              <a:endParaRPr b="0" lang="en-US" sz="5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"/>
            <p:cNvSpPr/>
            <p:nvPr/>
          </p:nvSpPr>
          <p:spPr>
            <a:xfrm>
              <a:off x="1654200" y="2640240"/>
              <a:ext cx="1898820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6240" rIns="66240" tIns="33120" bIns="33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專題學生：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XXX/</a:t>
              </a: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國立中央大學數學系 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1" lang="en-US" sz="2800" spc="-1" strike="noStrike" u="sng">
                  <a:solidFill>
                    <a:srgbClr val="cc9900"/>
                  </a:solidFill>
                  <a:uFillTx/>
                  <a:latin typeface="微軟正黑體"/>
                  <a:ea typeface="Arial Narrow"/>
                  <a:hlinkClick r:id="rId1"/>
                </a:rPr>
                <a:t>xxxxxxx@math.ncu.edu.tw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指導教授：楊肅煜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/</a:t>
              </a:r>
              <a:r>
                <a:rPr b="1" lang="zh-TW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國立中央大學數學系 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0" lang="en-US" sz="2800" spc="-1" strike="noStrike">
                  <a:solidFill>
                    <a:srgbClr val="0000ff"/>
                  </a:solidFill>
                  <a:latin typeface="微軟正黑體"/>
                  <a:ea typeface="Arial Narrow"/>
                </a:rPr>
                <a:t>syyang@math.ncu.edu.tw</a:t>
              </a:r>
              <a:r>
                <a:rPr b="1" lang="en-US" sz="28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651"/>
          <p:cNvSpPr/>
          <p:nvPr/>
        </p:nvSpPr>
        <p:spPr>
          <a:xfrm>
            <a:off x="1116000" y="4024440"/>
            <a:ext cx="19635840" cy="20858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58"/>
          <p:cNvSpPr/>
          <p:nvPr/>
        </p:nvSpPr>
        <p:spPr>
          <a:xfrm>
            <a:off x="16743240" y="39600"/>
            <a:ext cx="4730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2280" rIns="62280" tIns="31320" bIns="3132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638280"/>
                <a:tab algn="l" pos="1276200"/>
                <a:tab algn="l" pos="1914480"/>
                <a:tab algn="l" pos="2552760"/>
                <a:tab algn="l" pos="3191040"/>
                <a:tab algn="l" pos="3828960"/>
                <a:tab algn="l" pos="4467240"/>
                <a:tab algn="l" pos="5105520"/>
                <a:tab algn="l" pos="5743440"/>
                <a:tab algn="l" pos="6381720"/>
                <a:tab algn="l" pos="7020000"/>
                <a:tab algn="l" pos="7658280"/>
                <a:tab algn="l" pos="8296200"/>
                <a:tab algn="l" pos="8934480"/>
                <a:tab algn="l" pos="9572760"/>
                <a:tab algn="l" pos="10210680"/>
                <a:tab algn="l" pos="1084896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</a:rPr>
              <a:t>National Central University, Taiwan, June  01, 20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198440" y="571680"/>
            <a:ext cx="19794600" cy="704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MA3113: </a:t>
            </a:r>
            <a:r>
              <a:rPr b="1" lang="zh-TW" sz="42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數學影像處理專題期末海報展示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51"/>
          <p:cNvSpPr/>
          <p:nvPr/>
        </p:nvSpPr>
        <p:spPr>
          <a:xfrm>
            <a:off x="1122480" y="6434280"/>
            <a:ext cx="19635840" cy="416376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22"/>
          <p:cNvSpPr/>
          <p:nvPr/>
        </p:nvSpPr>
        <p:spPr>
          <a:xfrm>
            <a:off x="1084320" y="18626040"/>
            <a:ext cx="19634040" cy="609300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1084320" y="24936480"/>
            <a:ext cx="19634040" cy="196992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20304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0304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0304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文字方塊 27"/>
          <p:cNvSpPr/>
          <p:nvPr/>
        </p:nvSpPr>
        <p:spPr>
          <a:xfrm>
            <a:off x="1236600" y="25141320"/>
            <a:ext cx="191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矩形 30"/>
          <p:cNvSpPr/>
          <p:nvPr/>
        </p:nvSpPr>
        <p:spPr>
          <a:xfrm>
            <a:off x="1084320" y="27125640"/>
            <a:ext cx="19634040" cy="233820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文字方塊 31"/>
          <p:cNvSpPr/>
          <p:nvPr/>
        </p:nvSpPr>
        <p:spPr>
          <a:xfrm>
            <a:off x="1049400" y="27735120"/>
            <a:ext cx="19943640" cy="15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1]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F. Brezzi and A. Russo, Choosing bubbles for advection-diffusion problems,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Math. Models Meth. Appl. Sci.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4 (1994), pp. 571-587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2]  A. Cangiani and E. Suli, Enhanced RFB method, </a:t>
            </a:r>
            <a:r>
              <a:rPr b="0" i="1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Numer. Math., 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1 (2005), pp. 273-308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3]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L. P. Franca, S. L. Frey, and T. J. R. Hughes, Stabilized finite element methods: I. application to the AD model,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Comput. Methods Appl. Mech. Engrg.,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95 (1992), pp. 253-276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4]  L. P. Franca, J. V. A. Ramalho, and F. Valentin, Multiscale and residual-free bubble functions for RAD problems, </a:t>
            </a:r>
            <a:r>
              <a:rPr b="0" i="1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t. J. Multiscale Comput. Eng., 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3 (2005), pp. 297-  312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5] 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. Y. Hou and X.-H. Wu, A multiscale finite element method for elliptic problems in composite materials and porous media, </a:t>
            </a:r>
            <a:r>
              <a:rPr b="0" i="1" lang="en-US" sz="1900" spc="-1" strike="noStrike">
                <a:solidFill>
                  <a:srgbClr val="000000"/>
                </a:solidFill>
                <a:latin typeface="Times New Roman"/>
              </a:rPr>
              <a:t>J. Comput. Phys.,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134 (1997), pp. 169-189.</a:t>
            </a: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文字方塊 32"/>
          <p:cNvSpPr/>
          <p:nvPr/>
        </p:nvSpPr>
        <p:spPr>
          <a:xfrm>
            <a:off x="1206360" y="18702360"/>
            <a:ext cx="722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果與討論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sults and discus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文字方塊 33"/>
          <p:cNvSpPr/>
          <p:nvPr/>
        </p:nvSpPr>
        <p:spPr>
          <a:xfrm>
            <a:off x="1236600" y="6486480"/>
            <a:ext cx="123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研究動機和背景介紹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Motivation and introduction</a:t>
            </a:r>
            <a:r>
              <a:rPr b="1" lang="en-US" sz="2800" spc="-1" strike="noStrike">
                <a:solidFill>
                  <a:srgbClr val="00206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文字方塊 34"/>
          <p:cNvSpPr/>
          <p:nvPr/>
        </p:nvSpPr>
        <p:spPr>
          <a:xfrm>
            <a:off x="1084320" y="4086360"/>
            <a:ext cx="825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摘要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Abstract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文字方塊 35"/>
          <p:cNvSpPr/>
          <p:nvPr/>
        </p:nvSpPr>
        <p:spPr>
          <a:xfrm flipV="1" rot="10800000">
            <a:off x="1206000" y="4771800"/>
            <a:ext cx="195087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abstract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文字方塊 36"/>
          <p:cNvSpPr/>
          <p:nvPr/>
        </p:nvSpPr>
        <p:spPr>
          <a:xfrm>
            <a:off x="1287360" y="7132680"/>
            <a:ext cx="193420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motivation and introduction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文字方塊 38"/>
          <p:cNvSpPr/>
          <p:nvPr/>
        </p:nvSpPr>
        <p:spPr>
          <a:xfrm>
            <a:off x="1287360" y="2503980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論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Conclus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字方塊 40"/>
          <p:cNvSpPr/>
          <p:nvPr/>
        </p:nvSpPr>
        <p:spPr>
          <a:xfrm>
            <a:off x="1287360" y="25547760"/>
            <a:ext cx="192279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We have proposed a novel LSFEM using continuous piecewise linear elements enriched with residual-free bubbles. This enriched LSFEM not only inherits the advantages of the primitive LSFEM but also exhibits the characteristics of the residual-free bubble method. Through a series of numerical experiments, the enriched LSFEM certainly demonstrates a superior performance over the primitive LSFEMs for solving convection-dominated problems. The above results have been generalized to the system of convection-dominated equations such as the steady MHD duct flows with a high Hartmann number.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文字方塊 41"/>
          <p:cNvSpPr/>
          <p:nvPr/>
        </p:nvSpPr>
        <p:spPr>
          <a:xfrm>
            <a:off x="1236600" y="27174960"/>
            <a:ext cx="981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主要參考文獻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ference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字方塊 23"/>
          <p:cNvSpPr/>
          <p:nvPr/>
        </p:nvSpPr>
        <p:spPr>
          <a:xfrm>
            <a:off x="1216080" y="19307160"/>
            <a:ext cx="81388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sert your text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51"/>
          <p:cNvSpPr/>
          <p:nvPr/>
        </p:nvSpPr>
        <p:spPr>
          <a:xfrm>
            <a:off x="1101600" y="10848960"/>
            <a:ext cx="19634400" cy="748980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2280" rIns="62280" tIns="31320" bIns="31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字方塊 1"/>
          <p:cNvSpPr/>
          <p:nvPr/>
        </p:nvSpPr>
        <p:spPr>
          <a:xfrm>
            <a:off x="1200240" y="11010960"/>
            <a:ext cx="115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問題描述和研究方法 </a:t>
            </a:r>
            <a:r>
              <a:rPr b="1" lang="en-US" sz="28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Problem description and meth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字方塊 2"/>
          <p:cNvSpPr/>
          <p:nvPr/>
        </p:nvSpPr>
        <p:spPr>
          <a:xfrm>
            <a:off x="1419120" y="11704680"/>
            <a:ext cx="8134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problem description and mathematical method here!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圖片 3" descr=""/>
          <p:cNvPicPr/>
          <p:nvPr/>
        </p:nvPicPr>
        <p:blipFill>
          <a:blip r:embed="rId2"/>
          <a:stretch/>
        </p:blipFill>
        <p:spPr>
          <a:xfrm>
            <a:off x="1049400" y="566640"/>
            <a:ext cx="2139840" cy="1806840"/>
          </a:xfrm>
          <a:prstGeom prst="rect">
            <a:avLst/>
          </a:prstGeom>
          <a:ln w="0">
            <a:noFill/>
          </a:ln>
        </p:spPr>
      </p:pic>
      <p:sp>
        <p:nvSpPr>
          <p:cNvPr id="255" name="文字方塊 1"/>
          <p:cNvSpPr/>
          <p:nvPr/>
        </p:nvSpPr>
        <p:spPr>
          <a:xfrm>
            <a:off x="17651520" y="542124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0:28:33Z</dcterms:created>
  <dc:creator>Suh-Yuh Yang, NCU, Taiwan</dc:creator>
  <dc:description/>
  <dc:language>en-US</dc:language>
  <cp:lastModifiedBy>Microsoft Office 使用者</cp:lastModifiedBy>
  <dcterms:modified xsi:type="dcterms:W3CDTF">2025-02-15T12:10:06Z</dcterms:modified>
  <cp:revision>205</cp:revision>
  <dc:subject/>
  <dc:title>poster template</dc:title>
</cp:coreProperties>
</file>